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6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117-8484-42AA-9E90-08615CFD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72B-8A88-401B-A665-6A86EDE5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D45-FA15-406C-A08B-D83E2EEF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C78-7CB1-44C6-9645-C5A0B4F7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C87-4E91-4CFD-826B-472D3155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ED8-51D1-415B-9102-C4A31C4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187-D8F2-4408-9A66-35291CB3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EB5-9648-42CD-BA52-6C54EF47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330-CF65-4F49-8067-E35348E9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9FF-873C-4F21-A664-F4F509A5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C6B-FDA4-487C-AE65-4BA10C9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418-C0D7-4D64-9E0E-962EF6D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40E2-457E-4ECB-855C-3B406D7DC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MOSLOGO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53341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TOMATED DATA REDUCTIO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the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IMOS INTEGRAL FIELD UNIT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A.Zanichelli, B.Garilli, M.Scodeggio, D.Ri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3526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62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pse spectra in wavelength, build flux distribution and compute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s having fluxes below the mode are considered 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sky fibers, build Mean Sky for the group and sub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54400" y="1309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ky sub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rova" descr=""/>
          <p:cNvPicPr/>
          <p:nvPr/>
        </p:nvPicPr>
        <p:blipFill>
          <a:blip r:embed="rId1"/>
          <a:stretch/>
        </p:blipFill>
        <p:spPr>
          <a:xfrm>
            <a:off x="4038480" y="2468520"/>
            <a:ext cx="4038840" cy="884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14400" y="1935000"/>
            <a:ext cx="695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Stare observing mode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00 spectra (work on pseudo-sli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482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 fibers according to   FWHM along disp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6040" y="5105520"/>
            <a:ext cx="7533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70000"/>
              </a:lnSpc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cc99"/>
                </a:solidFill>
                <a:latin typeface="Times New Roman"/>
              </a:rPr>
              <a:t>Shift &amp; stare observing mode</a:t>
            </a:r>
            <a:r>
              <a:rPr b="0" lang="en-US" sz="2200" spc="-1" strike="noStrike">
                <a:solidFill>
                  <a:srgbClr val="00cc99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on single fiber spec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exposures with rejectio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 a sky spectrum for each fiber and sub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2971800"/>
            <a:ext cx="6934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55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Data Cub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e four quadrants must have been re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calibrated 1D spectra are rearranged according to the IFU Table, to allow a spatially coherent reconstruction of the observed sky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2D reconstructed imag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psing data cube in wavelength: whole grism spectral range or user-selected, small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nterpolation/drizzl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69920" y="13860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U DRS Final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9810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IFU DRS product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of 1D extracted, fully calibrated spectra + 3D data cube and 2D reconstructed 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hdf_sect" descr=""/>
          <p:cNvPicPr/>
          <p:nvPr/>
        </p:nvPicPr>
        <p:blipFill>
          <a:blip r:embed="rId1"/>
          <a:stretch/>
        </p:blipFill>
        <p:spPr>
          <a:xfrm>
            <a:off x="523800" y="2286000"/>
            <a:ext cx="4200480" cy="3605040"/>
          </a:xfrm>
          <a:prstGeom prst="rect">
            <a:avLst/>
          </a:prstGeom>
          <a:ln w="0">
            <a:noFill/>
          </a:ln>
        </p:spPr>
      </p:pic>
      <p:pic>
        <p:nvPicPr>
          <p:cNvPr id="108" name="hdf_ifu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505320" cy="3413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960" y="139716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DF South Through I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75560" y="1309680"/>
            <a:ext cx="27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963800"/>
            <a:ext cx="67816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 algn="just">
              <a:buClr>
                <a:srgbClr val="ff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rowded fields: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urate sky sub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3366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ic Data Reduction does not guarantee optimal sky   sub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3366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2D reconstructed image, manually select fibers in sky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3366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 sky spectrum and sub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92160" algn="just">
              <a:buClr>
                <a:srgbClr val="ff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pectra Co-ad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3366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2D reconstructed image, check for  “extended”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3366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a from microlenses falling on the same object are sum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92160" algn="just">
              <a:buClr>
                <a:srgbClr val="ff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ata Cube “slicing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3366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wavelength to get “monochromatic”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buClr>
                <a:srgbClr val="3366ff"/>
              </a:buClr>
              <a:buFont typeface="Times New Roman"/>
              <a:buChar char="–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range to get “narrow band”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6920" algn="just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49240" y="13096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2122560"/>
            <a:ext cx="64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IT WORKS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d you have a very accurate calibration dataset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G0012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ifu_head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64720" y="3429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FU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9400" y="2286000"/>
            <a:ext cx="31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IFU bundle an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08920" y="146196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 not use a “by hand” red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133720"/>
            <a:ext cx="76197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uge amount of data (6400 spectra from each exposur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3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ity of IFU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2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U data reduction requires dedicated algorithms (with respect to MOS or long slit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200" y="3851280"/>
            <a:ext cx="4956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cross-talk between spectra on the C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calibration of fiber relative transm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sky determination and sub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487692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5425920"/>
            <a:ext cx="5943600" cy="825480"/>
            <a:chOff x="1523880" y="5425920"/>
            <a:chExt cx="5943600" cy="825480"/>
          </a:xfrm>
        </p:grpSpPr>
        <p:sp>
          <p:nvSpPr>
            <p:cNvPr id="53" name=""/>
            <p:cNvSpPr/>
            <p:nvPr/>
          </p:nvSpPr>
          <p:spPr>
            <a:xfrm>
              <a:off x="1797120" y="5425920"/>
              <a:ext cx="567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eed an automatic, dedicated IFU Data Reduction 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5638680"/>
              <a:ext cx="45720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325920" y="2133720"/>
            <a:ext cx="24008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FU First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quadrant, ra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600 spec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tennae Galax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R Red, 5 m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67 arcsec/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ig2" descr=""/>
          <p:cNvPicPr/>
          <p:nvPr/>
        </p:nvPicPr>
        <p:blipFill>
          <a:blip r:embed="rId1"/>
          <a:stretch/>
        </p:blipFill>
        <p:spPr>
          <a:xfrm>
            <a:off x="762120" y="1441440"/>
            <a:ext cx="5429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9440" y="146196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U Data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181080" indent="-181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the VIMOS Data Reduction Software (imaging, MOS, IFU), developed in C and Python langua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similar to VIMOS MOS  data reduction as possi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s on single quadrant (4 images are acquired from each VIMOS exposure) up to Data Cube reconstru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automatic procedures + some interactiv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for MOS, makes use of auxiliary tables needed for reduction (optical distortion models &amp; c.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59160" y="138600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IFU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FU Table has been built according to IFU construction specific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ach fiber th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U Ta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s some fundamental paramet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196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ence between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iber 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IFU head and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spectr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196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iber relative transmis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d by calibration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196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iber pro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ameters (X and Y  FWHM of the spectrum on the C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24040" y="1219320"/>
            <a:ext cx="41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U Data Reduction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62120" y="1600200"/>
            <a:ext cx="7543800" cy="4495680"/>
            <a:chOff x="762120" y="1600200"/>
            <a:chExt cx="7543800" cy="4495680"/>
          </a:xfrm>
        </p:grpSpPr>
        <p:sp>
          <p:nvSpPr>
            <p:cNvPr id="63" name=""/>
            <p:cNvSpPr/>
            <p:nvPr/>
          </p:nvSpPr>
          <p:spPr>
            <a:xfrm>
              <a:off x="5181480" y="2286000"/>
              <a:ext cx="3124440" cy="380880"/>
            </a:xfrm>
            <a:prstGeom prst="flowChartAlternateProcess">
              <a:avLst/>
            </a:prstGeom>
            <a:solidFill>
              <a:srgbClr val="ffffcc"/>
            </a:solidFill>
            <a:ln cap="sq"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Sky determination and subt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0080" y="3124080"/>
              <a:ext cx="2667240" cy="381240"/>
            </a:xfrm>
            <a:prstGeom prst="flowChartAlternateProcess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hotometric Calib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7280" y="4876920"/>
              <a:ext cx="1981440" cy="380880"/>
            </a:xfrm>
            <a:prstGeom prst="flowChartAlternateProcess">
              <a:avLst/>
            </a:prstGeom>
            <a:solidFill>
              <a:srgbClr val="ffffcc"/>
            </a:solidFill>
            <a:ln cap="sq"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Build Data 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080" y="5715000"/>
              <a:ext cx="2895840" cy="380880"/>
            </a:xfrm>
            <a:prstGeom prst="flowChartAlternateProcess">
              <a:avLst/>
            </a:prstGeom>
            <a:solidFill>
              <a:srgbClr val="ffffcc"/>
            </a:solidFill>
            <a:ln cap="sq"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Build reconstructed 2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248520" y="4038480"/>
              <a:ext cx="1218960" cy="381240"/>
              <a:chOff x="6248520" y="4038480"/>
              <a:chExt cx="1218960" cy="381240"/>
            </a:xfrm>
          </p:grpSpPr>
          <p:sp>
            <p:nvSpPr>
              <p:cNvPr id="68" name=""/>
              <p:cNvSpPr/>
              <p:nvPr/>
            </p:nvSpPr>
            <p:spPr>
              <a:xfrm>
                <a:off x="6296400" y="40384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4 quadra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248520" y="4038480"/>
                <a:ext cx="1218960" cy="381240"/>
              </a:xfrm>
              <a:prstGeom prst="rect">
                <a:avLst/>
              </a:prstGeom>
              <a:noFill/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914400" y="1600200"/>
              <a:ext cx="2819520" cy="380880"/>
            </a:xfrm>
            <a:prstGeom prst="flowChartAlternateProcess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ias and Flat Field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2438280"/>
              <a:ext cx="2209680" cy="381240"/>
            </a:xfrm>
            <a:prstGeom prst="flowChartAlternateProcess">
              <a:avLst/>
            </a:prstGeom>
            <a:solidFill>
              <a:srgbClr val="ffffcc"/>
            </a:solidFill>
            <a:ln cap="sq"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Cros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Talk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276720"/>
              <a:ext cx="2666880" cy="838080"/>
            </a:xfrm>
            <a:prstGeom prst="flowChartAlternateProcess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tract 2D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avelength calib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3000" y="4572000"/>
              <a:ext cx="2362320" cy="609480"/>
            </a:xfrm>
            <a:prstGeom prst="flowChartAlternateProcess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tract 1D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no sky subtrac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5715000"/>
              <a:ext cx="3124080" cy="380880"/>
            </a:xfrm>
            <a:prstGeom prst="flowChartAlternateProcess">
              <a:avLst/>
            </a:prstGeom>
            <a:solidFill>
              <a:srgbClr val="ffffcc"/>
            </a:solidFill>
            <a:ln cap="sq"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Relative transmission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>
              <a:stCxn id="70" idx="2"/>
              <a:endCxn id="71" idx="0"/>
            </p:cNvCxnSpPr>
            <p:nvPr/>
          </p:nvCxnSpPr>
          <p:spPr>
            <a:xfrm>
              <a:off x="2323800" y="1995120"/>
              <a:ext cx="1080" cy="4294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71" idx="2"/>
              <a:endCxn id="72" idx="0"/>
            </p:cNvCxnSpPr>
            <p:nvPr/>
          </p:nvCxnSpPr>
          <p:spPr>
            <a:xfrm>
              <a:off x="2323800" y="2833200"/>
              <a:ext cx="1080" cy="4294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72" idx="2"/>
              <a:endCxn id="73" idx="0"/>
            </p:cNvCxnSpPr>
            <p:nvPr/>
          </p:nvCxnSpPr>
          <p:spPr>
            <a:xfrm>
              <a:off x="2323800" y="4129200"/>
              <a:ext cx="1080" cy="4291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3" idx="2"/>
              <a:endCxn id="74" idx="0"/>
            </p:cNvCxnSpPr>
            <p:nvPr/>
          </p:nvCxnSpPr>
          <p:spPr>
            <a:xfrm>
              <a:off x="2323800" y="5195880"/>
              <a:ext cx="1080" cy="50544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3" idx="2"/>
              <a:endCxn id="64" idx="0"/>
            </p:cNvCxnSpPr>
            <p:nvPr/>
          </p:nvCxnSpPr>
          <p:spPr>
            <a:xfrm>
              <a:off x="6743520" y="2680920"/>
              <a:ext cx="1080" cy="4294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6324480" y="3519000"/>
              <a:ext cx="191520" cy="5058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6590880" y="3519000"/>
              <a:ext cx="191160" cy="5058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82" name=""/>
            <p:cNvCxnSpPr/>
            <p:nvPr/>
          </p:nvCxnSpPr>
          <p:spPr>
            <a:xfrm>
              <a:off x="7048080" y="3519000"/>
              <a:ext cx="191160" cy="5058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83" name=""/>
            <p:cNvCxnSpPr/>
            <p:nvPr/>
          </p:nvCxnSpPr>
          <p:spPr>
            <a:xfrm>
              <a:off x="6819480" y="3519000"/>
              <a:ext cx="191160" cy="5058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84" name=""/>
            <p:cNvCxnSpPr>
              <a:stCxn id="69" idx="2"/>
              <a:endCxn id="65" idx="0"/>
            </p:cNvCxnSpPr>
            <p:nvPr/>
          </p:nvCxnSpPr>
          <p:spPr>
            <a:xfrm>
              <a:off x="6857640" y="4433400"/>
              <a:ext cx="1080" cy="4294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"/>
            <p:cNvCxnSpPr>
              <a:stCxn id="65" idx="2"/>
              <a:endCxn id="66" idx="0"/>
            </p:cNvCxnSpPr>
            <p:nvPr/>
          </p:nvCxnSpPr>
          <p:spPr>
            <a:xfrm>
              <a:off x="6857640" y="5272200"/>
              <a:ext cx="1080" cy="4291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" name=""/>
            <p:cNvCxnSpPr>
              <a:stCxn id="74" idx="3"/>
              <a:endCxn id="63" idx="1"/>
            </p:cNvCxnSpPr>
            <p:nvPr/>
          </p:nvCxnSpPr>
          <p:spPr>
            <a:xfrm flipV="1">
              <a:off x="3900240" y="2475720"/>
              <a:ext cx="1267560" cy="3429720"/>
            </a:xfrm>
            <a:prstGeom prst="bentConnector3">
              <a:avLst>
                <a:gd name="adj1" fmla="val 50000"/>
              </a:avLst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09680" y="1295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ross-Talk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1800" y="2571840"/>
            <a:ext cx="3212640" cy="3752280"/>
            <a:chOff x="901800" y="2571840"/>
            <a:chExt cx="3212640" cy="3752280"/>
          </a:xfrm>
        </p:grpSpPr>
        <p:pic>
          <p:nvPicPr>
            <p:cNvPr id="89" name="mod6" descr=""/>
            <p:cNvPicPr/>
            <p:nvPr/>
          </p:nvPicPr>
          <p:blipFill>
            <a:blip r:embed="rId1"/>
            <a:stretch/>
          </p:blipFill>
          <p:spPr>
            <a:xfrm>
              <a:off x="901800" y="3683880"/>
              <a:ext cx="2959560" cy="26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mod5" descr=""/>
            <p:cNvPicPr/>
            <p:nvPr/>
          </p:nvPicPr>
          <p:blipFill>
            <a:blip r:embed="rId2"/>
            <a:stretch/>
          </p:blipFill>
          <p:spPr>
            <a:xfrm>
              <a:off x="1461600" y="2571840"/>
              <a:ext cx="2652840" cy="214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4555080" y="2590920"/>
            <a:ext cx="283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oss-Talk depends 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spectral fl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iber spatial pro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1752480"/>
            <a:ext cx="56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 density of spectra on the C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cc99"/>
                </a:solidFill>
                <a:latin typeface="Monotype Sorts"/>
                <a:ea typeface="Monotype Sorts"/>
              </a:rPr>
              <a:t>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lux “contamination” from adjacent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916440"/>
            <a:ext cx="415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For each fiber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eed to know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er spatial profile parameters and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4846680"/>
            <a:ext cx="45036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each cross dispersion cu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 spatial profile of each 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e with measured module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y flux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95360" y="146196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ber Relative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276720"/>
            <a:ext cx="7924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Standard calibration</a:t>
            </a:r>
            <a:r>
              <a:rPr b="0" lang="en-US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fiber relativ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of twilight sky or image set in shift &amp; stare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t sky lines + continuum (gaussian + 2 degrees polynom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line flux and relative norm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Options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only 5577A sky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imes New Roman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ALL possible sky 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eded: further</a:t>
            </a:r>
            <a:r>
              <a:rPr b="0" lang="en-US" sz="2000" spc="-1" strike="noStrike">
                <a:solidFill>
                  <a:srgbClr val="3366ff"/>
                </a:solidFill>
                <a:latin typeface="Times New Roman"/>
              </a:rPr>
              <a:t> refine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each scientific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1337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fibers have different transmission efficien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ve transmission computed using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sky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6:28:48Z</dcterms:created>
  <dc:creator>Alessandra Zanichelli</dc:creator>
  <dc:description/>
  <dc:language>en-US</dc:language>
  <cp:lastModifiedBy>ira</cp:lastModifiedBy>
  <dcterms:modified xsi:type="dcterms:W3CDTF">2002-07-08T16:41:30Z</dcterms:modified>
  <cp:revision>35</cp:revision>
  <dc:subject/>
  <dc:title> DATA REDUCTION SOFTWARE  for the  VIMOS INTEGRAL FIELD UNIT</dc:title>
</cp:coreProperties>
</file>