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9701280" y="7199280"/>
            <a:ext cx="303120" cy="303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9180360" y="719928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1280" y="7128000"/>
            <a:ext cx="9936360" cy="0"/>
          </a:xfrm>
          <a:prstGeom prst="line">
            <a:avLst/>
          </a:prstGeom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28680" y="7236000"/>
            <a:ext cx="7620120" cy="214200"/>
          </a:xfrm>
          <a:prstGeom prst="roundRect">
            <a:avLst>
              <a:gd name="adj" fmla="val 731"/>
            </a:avLst>
          </a:prstGeom>
          <a:noFill/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3b3b3"/>
                </a:solidFill>
                <a:latin typeface="Conga"/>
              </a:rPr>
              <a:t>EURO3D Meeting - Tenerife 2-4 Jul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71280" y="7199280"/>
            <a:ext cx="30348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593640" y="7199280"/>
            <a:ext cx="303120" cy="303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6e6e6"/>
                </a:solidFill>
                <a:latin typeface="Arial;Helvetica"/>
              </a:rPr>
              <a:t>Click to edit the title text format</a:t>
            </a:r>
            <a:endParaRPr b="0" lang="en-US" sz="1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buClr>
                <a:srgbClr val="e6e6e6"/>
              </a:buClr>
              <a:buSzPct val="7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Arial;Helvetica"/>
              </a:rPr>
              <a:t>Click to edit the outline text format</a:t>
            </a: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  <a:p>
            <a:pPr lvl="1" marL="431640" indent="-431640">
              <a:buClr>
                <a:srgbClr val="e6e6e6"/>
              </a:buClr>
              <a:buSzPct val="7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Arial;Helvetica"/>
              </a:rPr>
              <a:t>Second Outline Level</a:t>
            </a: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  <a:p>
            <a:pPr lvl="2" marL="539640" indent="-431640">
              <a:buClr>
                <a:srgbClr val="e6e6e6"/>
              </a:buClr>
              <a:buSzPct val="75000"/>
              <a:buFont typeface="StarBats" charset="2"/>
              <a:buChar char="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Arial;Helvetica"/>
              </a:rPr>
              <a:t>Third Outline Level</a:t>
            </a: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  <a:p>
            <a:pPr lvl="3" marL="820800" indent="-432000">
              <a:buClr>
                <a:srgbClr val="e6e6e6"/>
              </a:buClr>
              <a:buSzPct val="75000"/>
              <a:buFont typeface="StarBats" charset="2"/>
              <a:buChar char="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Arial;Helvetica"/>
              </a:rPr>
              <a:t>Fourth Outline Level</a:t>
            </a: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  <a:p>
            <a:pPr lvl="4" marL="992160" indent="-431640">
              <a:buClr>
                <a:srgbClr val="e6e6e6"/>
              </a:buClr>
              <a:buSzPct val="75000"/>
              <a:buFont typeface="StarBats" charset="2"/>
              <a:buChar char="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Arial;Helvetica"/>
              </a:rPr>
              <a:t>Fifth Outline Level</a:t>
            </a: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  <a:p>
            <a:pPr lvl="5" marL="992160" indent="-431640">
              <a:buClr>
                <a:srgbClr val="000000"/>
              </a:buClr>
              <a:buSzPct val="75000"/>
              <a:buFont typeface="StarBats" charset="2"/>
              <a:buChar char="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Arial;Helvetica"/>
              </a:rPr>
              <a:t>Sixth Outline Level</a:t>
            </a: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  <a:p>
            <a:pPr lvl="6" marL="992160" indent="-431640">
              <a:buClr>
                <a:srgbClr val="000000"/>
              </a:buClr>
              <a:buSzPct val="75000"/>
              <a:buFont typeface="StarBats" charset="2"/>
              <a:buChar char="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Arial;Helvetica"/>
              </a:rPr>
              <a:t>Seventh Outline Level</a:t>
            </a:r>
            <a:endParaRPr b="0" lang="en-US" sz="1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9360" y="0"/>
            <a:ext cx="9380520" cy="713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58400" y="262080"/>
            <a:ext cx="808560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EFFI - E.S.O Fiber Fed Instr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liminary design concept and scienc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 u="sng">
                <a:solidFill>
                  <a:srgbClr val="ffff00"/>
                </a:solidFill>
                <a:uFillTx/>
                <a:latin typeface="Arial"/>
              </a:rPr>
              <a:t>culprits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: O. Hainaut (ohainaut@eso.or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A. Gilliotte (agilliot@eso.or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E. Pompei (epompei@eso.or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2760"/>
            <a:ext cx="8605800" cy="105588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;Helvetica"/>
              </a:rPr>
              <a:t>What now?</a:t>
            </a:r>
            <a:endParaRPr b="0" lang="en-US" sz="3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506240"/>
            <a:ext cx="86058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423000">
              <a:spcBef>
                <a:spcPts val="5664"/>
              </a:spcBef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System choice: fibers vs slicer?</a:t>
            </a:r>
            <a:r>
              <a:rPr b="0" lang="en-GB" sz="2400" spc="-1" strike="noStrike">
                <a:solidFill>
                  <a:srgbClr val="ffffff"/>
                </a:solidFill>
                <a:latin typeface="Arial;Helvetica"/>
              </a:rPr>
              <a:t>                                               - first one is "well" known and can be made relatively               cheap;                                                                                   - second one is NOT cheap, but is interesting for the new        tecnique and for the improved instrument compactness.        Pb: how stable is the system in a seismic zone?                          would it be possible to obtain a wide FOV with a                    single slicer and multiple slits?</a:t>
            </a:r>
            <a:endParaRPr b="0" lang="en-US" sz="2400" spc="-1" strike="noStrike">
              <a:solidFill>
                <a:srgbClr val="e6e6e6"/>
              </a:solidFill>
              <a:latin typeface="Arial;Helvetica"/>
            </a:endParaRPr>
          </a:p>
          <a:p>
            <a:pPr marL="423000" indent="-423000">
              <a:spcBef>
                <a:spcPts val="5664"/>
              </a:spcBef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Software: pipeline is needed. Integration within ESO and/or other Working Groups?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  <a:p>
            <a:pPr marL="423000" indent="-423000">
              <a:spcBef>
                <a:spcPts val="5664"/>
              </a:spcBef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Preliminary design review deadline: December 2002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0600" y="449280"/>
            <a:ext cx="8605800" cy="104616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;Helvetica"/>
              </a:rPr>
              <a:t>Why bother? Stars and the like....</a:t>
            </a:r>
            <a:endParaRPr b="0" lang="en-US" sz="3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009880"/>
            <a:ext cx="86058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423000">
              <a:spcBef>
                <a:spcPts val="3399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;Helvetica"/>
              </a:rPr>
              <a:t>Planetary nebulae structure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3000" indent="-423000"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;Helvetica"/>
              </a:rPr>
              <a:t>HII regions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3000" indent="-423000"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;Helvetica"/>
              </a:rPr>
              <a:t>Extended stellar jets kinematics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3000" indent="-423000">
              <a:spcBef>
                <a:spcPts val="33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;Helvetica"/>
              </a:rPr>
              <a:t>SN extended envelope (see for example SN1987A, observed on Spiral A at AAT)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3000" indent="-423000">
              <a:spcBef>
                <a:spcPts val="33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;Helvetica"/>
              </a:rPr>
              <a:t>Milky Way studies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3000" indent="-423000">
              <a:spcBef>
                <a:spcPts val="33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;Helvetica"/>
              </a:rPr>
              <a:t>Local group galaxies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040" y="250920"/>
            <a:ext cx="8605800" cy="87768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;Helvetica"/>
              </a:rPr>
              <a:t>Why bother? The extragalactic view...</a:t>
            </a:r>
            <a:endParaRPr b="0" lang="en-US" sz="3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0440" y="1275840"/>
            <a:ext cx="929304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Arial;Helvetica"/>
              </a:rPr>
              <a:t>Stellar kinematics and chemical abundances in elliptical galaxies:           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-determination of the velocity field;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	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                          -mapping of abundance gradients;                                                                                   - shape of the galaxies</a:t>
            </a:r>
            <a:endParaRPr b="0" lang="en-US" sz="18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Arial;Helvetica"/>
              </a:rPr>
              <a:t>Stellar and gaseous kinematics of spiral galaxies:                                    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- bulge velocity maps;                                                                                                       - detailed study of nuclear disks;                                                                                       - kinematics of bar and double bar systems; bar pattern speed</a:t>
            </a:r>
            <a:endParaRPr b="0" lang="en-US" sz="18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Arial;Helvetica"/>
              </a:rPr>
              <a:t>Stellar  and gaseous kinematics of dwarfs and BCD galaxies:                  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- detailed information on systems cosidered to be the relic of hierarchical formation of      galaxies and on the distribution of the stellar population</a:t>
            </a:r>
            <a:endParaRPr b="0" lang="en-US" sz="18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Arial;Helvetica"/>
              </a:rPr>
              <a:t>Stellar and gaseous kinematics of compact groups, loose association of galaxies  and galaxies in clusters:                                                         </a:t>
            </a:r>
            <a:r>
              <a:rPr b="0" lang="en-GB" sz="1800" spc="-1" strike="noStrike">
                <a:solidFill>
                  <a:srgbClr val="e6e6e6"/>
                </a:solidFill>
                <a:latin typeface="Arial;Helvetica"/>
              </a:rPr>
              <a:t>- how much the galactic potential is affected by interaction (coupled with HI and/or           X-ray observations);                                                                                                       -study of the inner galactic potential                                                                                 - activity level and physical conditions througout the emitting region</a:t>
            </a:r>
            <a:endParaRPr b="0" lang="en-US" sz="18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18880"/>
            <a:ext cx="9272520" cy="116028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;Helvetica"/>
              </a:rPr>
              <a:t>Requirements, i.e. what we would like to have</a:t>
            </a:r>
            <a:endParaRPr b="0" lang="en-US" sz="3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9208800" cy="61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42732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Telescopes considered: ESO 3.6m or NTT (EMMI replacement)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7320" indent="-42732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Wide Field of View (F.O.V.): ~ 3'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7320" indent="-427320"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Good sampling on the sky: 0.5"/fiber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7320" indent="-427320"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Intermediate resolution: 5000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7320" indent="-427320"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Wavelength coverage: 4860-5500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Å </a:t>
            </a: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(H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, Mg and Fe lines, [OIII]); 6300-6900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Å (H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[NII], [SII])</a:t>
            </a: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7320" indent="-427320"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Complementary and competitive with other existing instruments</a:t>
            </a:r>
            <a:endParaRPr b="0" lang="en-US" sz="2800" spc="-1" strike="noStrike">
              <a:solidFill>
                <a:srgbClr val="e6e6e6"/>
              </a:solidFill>
              <a:latin typeface="Arial;Helvetica"/>
            </a:endParaRPr>
          </a:p>
          <a:p>
            <a:pPr marL="427320" indent="-427320">
              <a:spcBef>
                <a:spcPts val="1125"/>
              </a:spcBef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Maximize the use of duplication and modularity techniques, fixed configuration 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355320"/>
            <a:ext cx="8605800" cy="109836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;Helvetica"/>
              </a:rPr>
              <a:t>A possible solution might be....</a:t>
            </a:r>
            <a:endParaRPr b="0" lang="en-US" sz="3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8040" y="1601640"/>
            <a:ext cx="86058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spcBef>
                <a:spcPts val="2826"/>
              </a:spcBef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Modular instrument, composed by many sub-units (37), each of them based on a fiber bundle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;Helvetica"/>
              </a:rPr>
              <a:t>EFFI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input beam </a:t>
            </a:r>
            <a:r>
              <a:rPr b="0" i="1" lang="en-GB" sz="2200" spc="-1" strike="noStrike">
                <a:solidFill>
                  <a:srgbClr val="ffffff"/>
                </a:solidFill>
                <a:latin typeface="Arial;Helvetica"/>
              </a:rPr>
              <a:t>f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ratio : 5.7 (for a 50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</a:rPr>
              <a:t>m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m fiber diameter, 3.4 for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       30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</a:rPr>
              <a:t>m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m fiber  diameter)</a:t>
            </a:r>
            <a:endParaRPr b="0" lang="en-US" sz="22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collimator </a:t>
            </a:r>
            <a:r>
              <a:rPr b="0" i="1" lang="en-GB" sz="2200" spc="-1" strike="noStrike">
                <a:solidFill>
                  <a:srgbClr val="ffffff"/>
                </a:solidFill>
                <a:latin typeface="Arial;Helvetica"/>
              </a:rPr>
              <a:t>f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ratio: 5 (to allow for some FRD, would be 3 for the       30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</a:rPr>
              <a:t>m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m fiber)</a:t>
            </a:r>
            <a:endParaRPr b="0" lang="en-US" sz="22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image diameter: 30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</a:rPr>
              <a:t>m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m (2 CCD pixels)</a:t>
            </a:r>
            <a:endParaRPr b="0" lang="en-US" sz="22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camera </a:t>
            </a:r>
            <a:r>
              <a:rPr b="0" i="1" lang="en-GB" sz="2200" spc="-1" strike="noStrike">
                <a:solidFill>
                  <a:srgbClr val="ffffff"/>
                </a:solidFill>
                <a:latin typeface="Arial;Helvetica"/>
              </a:rPr>
              <a:t>f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ratio: 5 (3), so to use a Littrow configuration for the          spectrograph</a:t>
            </a:r>
            <a:endParaRPr b="0" lang="en-US" sz="22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re-imaging technique:  focal reducer +  macrolenses</a:t>
            </a:r>
            <a:endParaRPr b="0" lang="en-US" sz="22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in the preliminary design the dispersion is perpendicular to the       main plane of the spectrograph, to minimize off-axis effect.</a:t>
            </a:r>
            <a:endParaRPr b="0" lang="en-US" sz="2200" spc="-1" strike="noStrike">
              <a:solidFill>
                <a:srgbClr val="e6e6e6"/>
              </a:solidFill>
              <a:latin typeface="Arial;Helvetica"/>
            </a:endParaRPr>
          </a:p>
          <a:p>
            <a:pPr marL="431640" indent="-4316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Arial;Helvetica"/>
              </a:rPr>
              <a:t>CCD detectors: 4k x 2k</a:t>
            </a:r>
            <a:endParaRPr b="0" lang="en-US" sz="2200" spc="-1" strike="noStrike">
              <a:solidFill>
                <a:srgbClr val="e6e6e6"/>
              </a:solidFill>
              <a:latin typeface="Arial;Helvetic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8605800" cy="77292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;Helvetica"/>
              </a:rPr>
              <a:t>EFFI: schematic view</a:t>
            </a:r>
            <a:endParaRPr b="0" lang="en-US" sz="3600" spc="-1" strike="noStrike">
              <a:solidFill>
                <a:srgbClr val="e6e6e6"/>
              </a:solidFill>
              <a:latin typeface="Arial;Helvetic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080" y="1174680"/>
            <a:ext cx="3827520" cy="554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081320" y="1319040"/>
            <a:ext cx="58816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ft pane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schematic drawing of one sub-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configuration foreseen is a parabo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llimator and a fixed plane grating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ttom pane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schematic 3D view of the optical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16400" y="3436920"/>
            <a:ext cx="50086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0080" y="135000"/>
            <a:ext cx="8606160" cy="60624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;Helvetica"/>
              </a:rPr>
              <a:t>EFFI: arrangement on sky</a:t>
            </a:r>
            <a:endParaRPr b="0" lang="en-US" sz="3600" spc="-1" strike="noStrike">
              <a:solidFill>
                <a:srgbClr val="e6e6e6"/>
              </a:solidFill>
              <a:latin typeface="Arial;Helvetic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2840" y="109692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6360" y="1666800"/>
            <a:ext cx="1122480" cy="112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17520" y="2851200"/>
            <a:ext cx="1770120" cy="177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2840" y="4699080"/>
            <a:ext cx="2408040" cy="2408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41400" y="1109520"/>
            <a:ext cx="890604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3deb3d"/>
                </a:solidFill>
                <a:uFillTx/>
                <a:latin typeface="Arial"/>
              </a:rPr>
              <a:t>Sinle spectrograp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one EFFI sub-unit, 1024 fibers on sky, ~20" FO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200" spc="-1" strike="noStrike" u="sng">
                <a:solidFill>
                  <a:srgbClr val="3deb3d"/>
                </a:solidFill>
                <a:uFillTx/>
                <a:latin typeface="Arial"/>
              </a:rPr>
              <a:t>Nine spectrograph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9216 fibers on sky, ~70" FO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200" spc="-1" strike="noStrike" u="sng">
                <a:solidFill>
                  <a:srgbClr val="3deb3d"/>
                </a:solidFill>
                <a:uFillTx/>
                <a:latin typeface="Arial"/>
              </a:rPr>
              <a:t>Twenty-one spectrograph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21504 fibers on sky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~128" FO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GB" sz="2200" spc="-1" strike="noStrike" u="sng">
                <a:solidFill>
                  <a:srgbClr val="3deb3d"/>
                </a:solidFill>
                <a:uFillTx/>
                <a:latin typeface="Arial"/>
              </a:rPr>
              <a:t>Final configurat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37 spectrographs on sky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7888 fibers on sky, 180" FOV (field diamete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all fields the inner circle marks the area with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00% rotation co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200" y="239400"/>
            <a:ext cx="8605800" cy="116028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;Helvetica"/>
              </a:rPr>
              <a:t>EFFI: data handling</a:t>
            </a:r>
            <a:endParaRPr b="0" lang="en-US" sz="3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58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4186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a 100 Gb disk will contain ~ 160 raw spectra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  <a:p>
            <a:pPr marL="418680" indent="-418680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removal of instrument signature (rotation effect included);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  <a:p>
            <a:pPr marL="418680" indent="-418680"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wavelength calibration;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  <a:p>
            <a:pPr marL="418680" indent="-418680"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data cube reconstruction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  <a:p>
            <a:pPr marL="418680" indent="-418680"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;Helvetica"/>
              </a:rPr>
              <a:t>Basic idea: a computer dedicated to each spectrograph, plus one for the final assembly (in the final configuration)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</p:txBody>
      </p:sp>
      <p:sp>
        <p:nvSpPr>
          <p:cNvPr id="66" name=""/>
          <p:cNvSpPr/>
          <p:nvPr/>
        </p:nvSpPr>
        <p:spPr>
          <a:xfrm>
            <a:off x="4867200" y="4290840"/>
            <a:ext cx="0" cy="952560"/>
          </a:xfrm>
          <a:prstGeom prst="line">
            <a:avLst/>
          </a:prstGeom>
          <a:ln w="109800">
            <a:solidFill>
              <a:srgbClr val="3deb3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5840" y="114120"/>
            <a:ext cx="8605800" cy="973080"/>
          </a:xfrm>
          <a:prstGeom prst="rect">
            <a:avLst/>
          </a:prstGeom>
          <a:solidFill>
            <a:srgbClr val="666666"/>
          </a:solidFill>
          <a:ln w="9360">
            <a:solidFill>
              <a:srgbClr val="999999"/>
            </a:solidFill>
            <a:miter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;Helvetica"/>
              </a:rPr>
              <a:t>Or: image slicer?</a:t>
            </a:r>
            <a:br>
              <a:rPr sz="3200"/>
            </a:br>
            <a:r>
              <a:rPr b="0" lang="en-GB" sz="2600" spc="-1" strike="noStrike">
                <a:solidFill>
                  <a:srgbClr val="ffff00"/>
                </a:solidFill>
                <a:latin typeface="Arial;Helvetica"/>
              </a:rPr>
              <a:t>see:</a:t>
            </a:r>
            <a:r>
              <a:rPr b="0" lang="en-GB" sz="3200" spc="-1" strike="noStrike">
                <a:solidFill>
                  <a:srgbClr val="ffff00"/>
                </a:solidFill>
                <a:latin typeface="Arial;Helvetica"/>
              </a:rPr>
              <a:t> </a:t>
            </a:r>
            <a:r>
              <a:rPr b="0" lang="en-GB" sz="2600" spc="-1" strike="noStrike">
                <a:solidFill>
                  <a:srgbClr val="ffff00"/>
                </a:solidFill>
                <a:latin typeface="Arial;Helvetica"/>
              </a:rPr>
              <a:t>http://aig-www.dur.ac.uk/</a:t>
            </a:r>
            <a:endParaRPr b="0" lang="en-US" sz="2600" spc="-1" strike="noStrike">
              <a:solidFill>
                <a:srgbClr val="e6e6e6"/>
              </a:solidFill>
              <a:latin typeface="Arial;Helvetic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52480" y="1120680"/>
            <a:ext cx="82836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22:13:33Z</dcterms:created>
  <dc:creator/>
  <dc:description/>
  <dc:language>en-US</dc:language>
  <cp:lastModifiedBy>Emanuela Pompei</cp:lastModifiedBy>
  <cp:lastPrinted>2002-06-30T00:14:03Z</cp:lastPrinted>
  <cp:revision>0</cp:revision>
  <dc:subject/>
  <dc:title/>
</cp:coreProperties>
</file>