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6.png" ContentType="image/pn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24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213440"/>
            <a:ext cx="77724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2134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2134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50236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599840"/>
            <a:ext cx="250236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599840"/>
            <a:ext cx="250236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213440"/>
            <a:ext cx="250236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213440"/>
            <a:ext cx="250236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213440"/>
            <a:ext cx="250236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26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37926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37926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2134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26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2134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37926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213440"/>
            <a:ext cx="7772400" cy="23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5840" y="6488280"/>
            <a:ext cx="1838160" cy="36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380880"/>
            <a:ext cx="81788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Comic Sans MS"/>
              </a:rPr>
              <a:t>The SAURON Surve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-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The stellar population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of early-type galaxie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38120" y="4419720"/>
            <a:ext cx="36687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ald Kuntschn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SO, Germa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AURON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1219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72120" y="142920"/>
            <a:ext cx="831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  <a:ea typeface="Arial"/>
              </a:rPr>
              <a:t>Determining age and metallicity in pract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280" y="5094360"/>
            <a:ext cx="8802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150000"/>
              <a:buFont typeface="Arial"/>
              <a:buChar char="•"/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strengths of absorption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150000"/>
              <a:buFont typeface="Arial"/>
              <a:buChar char="•"/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rrect them for e.g., velocity broadening of the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150000"/>
              <a:buFont typeface="Arial"/>
              <a:buChar char="•"/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them with theoretical line strengths f(age, Z, [Mg/Fe]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821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Comic Sans MS"/>
              </a:rPr>
              <a:t>Models: age, metallicity &amp; [Mg/Fe]</a:t>
            </a:r>
            <a:endParaRPr b="0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5800" y="1989000"/>
            <a:ext cx="3946680" cy="423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230720" cy="423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7360" y="62578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zdekis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95400" y="63025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mas et al.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8800" y="2259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g/F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8223800">
            <a:off x="6139800" y="34437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681280" y="1314360"/>
            <a:ext cx="3645000" cy="4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uminosity weighte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1080" y="23328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SAURON - Indice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85720" y="1797120"/>
            <a:ext cx="6640560" cy="372888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423720" indent="-318960">
              <a:spcBef>
                <a:spcPts val="700"/>
              </a:spcBef>
              <a:buClr>
                <a:srgbClr val="ffcc66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tarBats"/>
                <a:ea typeface="StarBats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e 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spcBef>
                <a:spcPts val="700"/>
              </a:spcBef>
              <a:buClr>
                <a:srgbClr val="ffcc66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Fe50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tarBats"/>
                <a:ea typeface="StarBats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tallicity and age 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spcBef>
                <a:spcPts val="700"/>
              </a:spcBef>
              <a:buClr>
                <a:srgbClr val="ffcc66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g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tarBats"/>
                <a:ea typeface="StarBats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tallicity and age 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spcBef>
                <a:spcPts val="700"/>
              </a:spcBef>
              <a:buClr>
                <a:srgbClr val="ffcc66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Fe527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good Fe indi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eded for [Mg/Fe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spcBef>
                <a:spcPts val="700"/>
              </a:spcBef>
              <a:buClr>
                <a:srgbClr val="ffcc66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[OIII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mission fe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bing the ionized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9440" y="189000"/>
            <a:ext cx="3940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Line Strengths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Literature Compari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97400" y="93600"/>
            <a:ext cx="4025880" cy="636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94960" y="2168640"/>
            <a:ext cx="1358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2300" spc="-1" strike="noStrike">
                <a:solidFill>
                  <a:srgbClr val="ff0000"/>
                </a:solidFill>
                <a:latin typeface="Times New Roman"/>
              </a:rPr>
              <a:t>Major Ax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4600" y="4734000"/>
            <a:ext cx="1375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2300" spc="-1" strike="noStrike">
                <a:solidFill>
                  <a:srgbClr val="ff0000"/>
                </a:solidFill>
                <a:latin typeface="Times New Roman"/>
              </a:rPr>
              <a:t>Minor Ax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3080" y="2048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  <a:ea typeface="Arial"/>
              </a:rPr>
              <a:t>NGC 33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5200" y="6219720"/>
            <a:ext cx="184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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sher et al.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200" y="329400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Long-Slit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7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3384 S0 (cluster) 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8629" r="0" b="3627"/>
          <a:stretch/>
        </p:blipFill>
        <p:spPr>
          <a:xfrm>
            <a:off x="762120" y="1219320"/>
            <a:ext cx="7696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629560" cy="3911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Line-strength maps – N5813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1754280"/>
            <a:ext cx="18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33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286000"/>
            <a:ext cx="228600" cy="15238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2360" y="3530520"/>
            <a:ext cx="876240" cy="609840"/>
          </a:xfrm>
          <a:custGeom>
            <a:avLst/>
            <a:gdLst/>
            <a:ahLst/>
            <a:rect l="l" t="t" r="r" b="b"/>
            <a:pathLst>
              <a:path w="552" h="384">
                <a:moveTo>
                  <a:pt x="112" y="32"/>
                </a:moveTo>
                <a:cubicBezTo>
                  <a:pt x="120" y="88"/>
                  <a:pt x="128" y="144"/>
                  <a:pt x="160" y="176"/>
                </a:cubicBezTo>
                <a:cubicBezTo>
                  <a:pt x="192" y="208"/>
                  <a:pt x="248" y="208"/>
                  <a:pt x="304" y="224"/>
                </a:cubicBezTo>
                <a:cubicBezTo>
                  <a:pt x="360" y="240"/>
                  <a:pt x="456" y="256"/>
                  <a:pt x="496" y="272"/>
                </a:cubicBezTo>
                <a:cubicBezTo>
                  <a:pt x="536" y="288"/>
                  <a:pt x="552" y="304"/>
                  <a:pt x="544" y="320"/>
                </a:cubicBezTo>
                <a:cubicBezTo>
                  <a:pt x="536" y="336"/>
                  <a:pt x="488" y="360"/>
                  <a:pt x="448" y="368"/>
                </a:cubicBezTo>
                <a:cubicBezTo>
                  <a:pt x="408" y="376"/>
                  <a:pt x="360" y="384"/>
                  <a:pt x="304" y="368"/>
                </a:cubicBezTo>
                <a:cubicBezTo>
                  <a:pt x="248" y="352"/>
                  <a:pt x="160" y="328"/>
                  <a:pt x="112" y="272"/>
                </a:cubicBezTo>
                <a:cubicBezTo>
                  <a:pt x="64" y="216"/>
                  <a:pt x="32" y="64"/>
                  <a:pt x="16" y="32"/>
                </a:cubicBezTo>
                <a:cubicBezTo>
                  <a:pt x="0" y="0"/>
                  <a:pt x="16" y="80"/>
                  <a:pt x="16" y="80"/>
                </a:cubicBezTo>
                <a:cubicBezTo>
                  <a:pt x="16" y="80"/>
                  <a:pt x="16" y="56"/>
                  <a:pt x="16" y="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65360" y="4178160"/>
            <a:ext cx="482760" cy="927360"/>
          </a:xfrm>
          <a:custGeom>
            <a:avLst/>
            <a:gdLst/>
            <a:ahLst/>
            <a:rect l="l" t="t" r="r" b="b"/>
            <a:pathLst>
              <a:path w="304" h="584">
                <a:moveTo>
                  <a:pt x="304" y="488"/>
                </a:moveTo>
                <a:cubicBezTo>
                  <a:pt x="268" y="420"/>
                  <a:pt x="232" y="352"/>
                  <a:pt x="208" y="296"/>
                </a:cubicBezTo>
                <a:cubicBezTo>
                  <a:pt x="184" y="240"/>
                  <a:pt x="168" y="184"/>
                  <a:pt x="160" y="152"/>
                </a:cubicBezTo>
                <a:cubicBezTo>
                  <a:pt x="152" y="120"/>
                  <a:pt x="176" y="128"/>
                  <a:pt x="160" y="104"/>
                </a:cubicBezTo>
                <a:cubicBezTo>
                  <a:pt x="144" y="80"/>
                  <a:pt x="88" y="16"/>
                  <a:pt x="64" y="8"/>
                </a:cubicBezTo>
                <a:cubicBezTo>
                  <a:pt x="40" y="0"/>
                  <a:pt x="24" y="40"/>
                  <a:pt x="16" y="56"/>
                </a:cubicBezTo>
                <a:cubicBezTo>
                  <a:pt x="8" y="72"/>
                  <a:pt x="0" y="80"/>
                  <a:pt x="16" y="104"/>
                </a:cubicBezTo>
                <a:cubicBezTo>
                  <a:pt x="32" y="128"/>
                  <a:pt x="96" y="168"/>
                  <a:pt x="112" y="200"/>
                </a:cubicBezTo>
                <a:cubicBezTo>
                  <a:pt x="128" y="232"/>
                  <a:pt x="120" y="280"/>
                  <a:pt x="112" y="296"/>
                </a:cubicBezTo>
                <a:cubicBezTo>
                  <a:pt x="104" y="312"/>
                  <a:pt x="72" y="288"/>
                  <a:pt x="64" y="296"/>
                </a:cubicBezTo>
                <a:cubicBezTo>
                  <a:pt x="56" y="304"/>
                  <a:pt x="56" y="336"/>
                  <a:pt x="64" y="344"/>
                </a:cubicBezTo>
                <a:cubicBezTo>
                  <a:pt x="72" y="352"/>
                  <a:pt x="96" y="336"/>
                  <a:pt x="112" y="344"/>
                </a:cubicBezTo>
                <a:cubicBezTo>
                  <a:pt x="128" y="352"/>
                  <a:pt x="144" y="352"/>
                  <a:pt x="160" y="392"/>
                </a:cubicBezTo>
                <a:cubicBezTo>
                  <a:pt x="176" y="432"/>
                  <a:pt x="200" y="552"/>
                  <a:pt x="208" y="584"/>
                </a:cubicBezTo>
              </a:path>
            </a:pathLst>
          </a:custGeom>
          <a:noFill/>
          <a:ln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520" y="649116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 Zeeuw et al. MNRAS 329, 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57400" y="1676520"/>
            <a:ext cx="6932520" cy="4840200"/>
            <a:chOff x="2057400" y="1676520"/>
            <a:chExt cx="6932520" cy="4840200"/>
          </a:xfrm>
        </p:grpSpPr>
        <p:grpSp>
          <p:nvGrpSpPr>
            <p:cNvPr id="106" name=""/>
            <p:cNvGrpSpPr/>
            <p:nvPr/>
          </p:nvGrpSpPr>
          <p:grpSpPr>
            <a:xfrm>
              <a:off x="2057400" y="1676520"/>
              <a:ext cx="6932520" cy="4840200"/>
              <a:chOff x="2057400" y="1676520"/>
              <a:chExt cx="6932520" cy="4840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2057400" y="2362320"/>
                <a:ext cx="6932520" cy="4154400"/>
                <a:chOff x="2057400" y="2362320"/>
                <a:chExt cx="6932520" cy="4154400"/>
              </a:xfrm>
            </p:grpSpPr>
            <p:pic>
              <p:nvPicPr>
                <p:cNvPr id="108" name="" descr=""/>
                <p:cNvPicPr/>
                <p:nvPr/>
              </p:nvPicPr>
              <p:blipFill>
                <a:blip r:embed="rId2"/>
                <a:srcRect l="0" t="0" r="13057" b="0"/>
                <a:stretch/>
              </p:blipFill>
              <p:spPr>
                <a:xfrm>
                  <a:off x="3886200" y="2362320"/>
                  <a:ext cx="5103720" cy="4154400"/>
                </a:xfrm>
                <a:prstGeom prst="rect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flipV="1">
                  <a:off x="2133720" y="3657600"/>
                  <a:ext cx="1981080" cy="38088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057400" y="4267080"/>
                  <a:ext cx="205740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4041720" y="1676520"/>
                <a:ext cx="185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rial"/>
                  </a:rPr>
                  <a:t>H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Arial"/>
                  </a:rPr>
                  <a:t> emis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76920" y="2209680"/>
                <a:ext cx="0" cy="129564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943240" y="1676520"/>
              <a:ext cx="21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[OIII] emis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2209680"/>
              <a:ext cx="0" cy="9907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3850" r="14812" b="10215"/>
          <a:stretch/>
        </p:blipFill>
        <p:spPr>
          <a:xfrm>
            <a:off x="385920" y="998640"/>
            <a:ext cx="3873240" cy="5635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9080" y="-360"/>
            <a:ext cx="6764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Comic Sans MS"/>
              </a:rPr>
              <a:t>Emission line subtrac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1890720" cy="2954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0" y="1042920"/>
            <a:ext cx="18730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03080" y="62215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ellem et 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0240" y="4014720"/>
            <a:ext cx="97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6640" y="1898640"/>
            <a:ext cx="3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f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8440" y="1538280"/>
            <a:ext cx="111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43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365 (E3) – Line-strength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72200" y="1844640"/>
            <a:ext cx="2644920" cy="383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52680" y="1844640"/>
            <a:ext cx="2589480" cy="381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1844640"/>
            <a:ext cx="2795400" cy="38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03320" y="587700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 sign of KD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3800" y="587700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 enrich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0600" y="1149480"/>
            <a:ext cx="82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avies, Kuntschner, Emsellem, et al., 2001, ApJL, 548, L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5877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ear K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365 – Age, [M/H]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7440" y="37159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rotating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at core rad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at larger rad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473220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4120" y="17002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KDC is old and in line with main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1800" y="-36720"/>
            <a:ext cx="734040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150 (S0)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197000"/>
            <a:ext cx="4230720" cy="50864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52480" y="1197000"/>
            <a:ext cx="7162920" cy="5001120"/>
            <a:chOff x="1752480" y="1197000"/>
            <a:chExt cx="7162920" cy="500112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4648320" y="1197000"/>
              <a:ext cx="4267080" cy="42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V="1">
              <a:off x="1752480" y="4473360"/>
              <a:ext cx="144792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7080" y="5616720"/>
              <a:ext cx="294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buClr>
                  <a:srgbClr val="ffcc66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nly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±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10 km/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onten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do we know about stellar pops in E/S0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als with SAU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s of stellar p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e, metal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undance rat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88080" y="5562360"/>
            <a:ext cx="22086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ctr" anchorCtr="1">
            <a:spAutoFit/>
          </a:bodyPr>
          <a:p>
            <a:pPr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entral dip in Mgb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000" y="5486040"/>
            <a:ext cx="22773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ctr" anchorCtr="1">
            <a:spAutoFit/>
          </a:bodyPr>
          <a:p>
            <a:pPr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5080"/>
                <a:tab algn="l" pos="3606840"/>
                <a:tab algn="l" pos="4006800"/>
                <a:tab algn="l" pos="4408560"/>
                <a:tab algn="l" pos="4808520"/>
                <a:tab algn="l" pos="5210280"/>
                <a:tab algn="l" pos="5610240"/>
                <a:tab algn="l" pos="6010200"/>
                <a:tab algn="l" pos="6411960"/>
                <a:tab algn="l" pos="6811920"/>
                <a:tab algn="l" pos="7213680"/>
                <a:tab algn="l" pos="7613640"/>
                <a:tab algn="l" pos="801540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trong H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in cent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1800" y="152280"/>
            <a:ext cx="7340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150 (S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50772" r="34315" b="3545"/>
          <a:stretch/>
        </p:blipFill>
        <p:spPr>
          <a:xfrm>
            <a:off x="1219320" y="1371600"/>
            <a:ext cx="6933960" cy="3726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 flipV="1">
            <a:off x="6248160" y="33523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3352320"/>
            <a:ext cx="60948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150 (S0) : post-starburs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641600"/>
            <a:ext cx="8763120" cy="47401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666880" y="0"/>
            <a:ext cx="6477120" cy="6246720"/>
            <a:chOff x="2666880" y="0"/>
            <a:chExt cx="6477120" cy="624672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4419720" y="3047760"/>
              <a:ext cx="4724280" cy="31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4389480" y="0"/>
              <a:ext cx="475452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666880" y="380988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57600" y="2285640"/>
              <a:ext cx="9907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57800" y="457200"/>
            <a:ext cx="609480" cy="4800600"/>
            <a:chOff x="5257800" y="457200"/>
            <a:chExt cx="609480" cy="4800600"/>
          </a:xfrm>
        </p:grpSpPr>
        <p:sp>
          <p:nvSpPr>
            <p:cNvPr id="156" name=""/>
            <p:cNvSpPr/>
            <p:nvPr/>
          </p:nvSpPr>
          <p:spPr>
            <a:xfrm>
              <a:off x="5257800" y="457200"/>
              <a:ext cx="609480" cy="16765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581280"/>
              <a:ext cx="609480" cy="16765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Metal produc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y abundance ratio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1280" y="1763640"/>
            <a:ext cx="4934160" cy="470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648400" y="3159000"/>
            <a:ext cx="3019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mescales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716280" y="4554360"/>
            <a:ext cx="1810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897360" y="4689000"/>
            <a:ext cx="2070000" cy="405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60600" y="48862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6280" y="304560"/>
            <a:ext cx="6181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150 – [Mg/Fe]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1280" y="2019240"/>
            <a:ext cx="4545000" cy="454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81840" y="2895480"/>
            <a:ext cx="36889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olar abundance rat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for young (central)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, underlying stel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[Mg/Fe]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31640" y="189000"/>
            <a:ext cx="1692360" cy="17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737360" y="23940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g/Fe] = 0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5768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1640" y="30456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365 – [Mg/Fe]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320364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KDC abundance ratio is in line with main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000" y="1711440"/>
            <a:ext cx="4902120" cy="49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31785" t="30586" r="32774" b="43341"/>
          <a:stretch/>
        </p:blipFill>
        <p:spPr>
          <a:xfrm>
            <a:off x="250920" y="18900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1280" y="502920"/>
            <a:ext cx="672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5813 – [Mg/Fe]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98440" y="5408640"/>
            <a:ext cx="7715880" cy="1191240"/>
            <a:chOff x="298440" y="5408640"/>
            <a:chExt cx="7715880" cy="1191240"/>
          </a:xfrm>
        </p:grpSpPr>
        <p:sp>
          <p:nvSpPr>
            <p:cNvPr id="178" name=""/>
            <p:cNvSpPr/>
            <p:nvPr/>
          </p:nvSpPr>
          <p:spPr>
            <a:xfrm>
              <a:off x="298440" y="5789520"/>
              <a:ext cx="1447920" cy="304920"/>
            </a:xfrm>
            <a:prstGeom prst="rightArrow">
              <a:avLst>
                <a:gd name="adj1" fmla="val 50000"/>
                <a:gd name="adj2" fmla="val 118713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2000" y="5408640"/>
              <a:ext cx="59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66"/>
                </a:buClr>
                <a:buSzPct val="14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DC is o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cc66"/>
                </a:buClr>
                <a:buSzPct val="14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[Mg/Fe] =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cc66"/>
                </a:buClr>
                <a:buSzPct val="14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ll increase of [Mg/Fe] towards cent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98840" y="5865840"/>
              <a:ext cx="136800" cy="264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689120" cy="1981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0920" y="2394000"/>
            <a:ext cx="8686800" cy="2982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139160" y="2754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9880" y="297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GC 4406 – [Mg/Fe]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438280" cy="190980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431640" y="5364000"/>
            <a:ext cx="7715880" cy="1191240"/>
            <a:chOff x="431640" y="5364000"/>
            <a:chExt cx="7715880" cy="1191240"/>
          </a:xfrm>
        </p:grpSpPr>
        <p:sp>
          <p:nvSpPr>
            <p:cNvPr id="188" name=""/>
            <p:cNvSpPr/>
            <p:nvPr/>
          </p:nvSpPr>
          <p:spPr>
            <a:xfrm>
              <a:off x="431640" y="5744880"/>
              <a:ext cx="1447920" cy="304920"/>
            </a:xfrm>
            <a:prstGeom prst="rightArrow">
              <a:avLst>
                <a:gd name="adj1" fmla="val 50000"/>
                <a:gd name="adj2" fmla="val 118713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85200" y="5364000"/>
              <a:ext cx="59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66"/>
                </a:buClr>
                <a:buSzPct val="14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DC is o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cc66"/>
                </a:buClr>
                <a:buSzPct val="14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[Mg/Fe] =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cc66"/>
                </a:buClr>
                <a:buSzPct val="14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ll increase of [Mg/Fe] towards cent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632040" y="5821200"/>
              <a:ext cx="136800" cy="264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8596080" cy="2938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129880" y="2754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39160" y="257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436400"/>
            <a:ext cx="82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Line-strength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URON can measure highly accurate line-strength indices over a 2dim F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-Strength maps of E/S0s are largely ‘smooth’; iso-index contours follow roughly the isoph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galaxies do show line-strength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undance ratios are interesting probes of star-formation time-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alax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For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nd how do E/S0/Sa galaxie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rbital make-up of E/S0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What is the average 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What is the average metal cont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 of substructures; e.g. faint disks in Es, decoupled co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0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 transform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2149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62520" y="2133720"/>
            <a:ext cx="2057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37000" y="167652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Comic Sans MS"/>
              </a:rPr>
              <a:t>SAUR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400" y="327672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olas, Mich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do we know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-type galaxies are mostly found in high density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minous (massive) cluster E/S0 galaxies ar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d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metal rich) – CMR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in Es are old but S0s can hav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33"/>
                </a:solidFill>
                <a:latin typeface="Arial"/>
              </a:rPr>
              <a:t>younger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could this be just a luminosity effec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s of spiral bulges are similar to Es (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E/S0s are younger compared to cluster (?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Comic Sans MS"/>
              </a:rPr>
              <a:t>Field </a:t>
            </a:r>
            <a:r>
              <a:rPr b="0" i="1" lang="en-GB" sz="4000" spc="-1" strike="noStrike">
                <a:solidFill>
                  <a:srgbClr val="ffcc66"/>
                </a:solidFill>
                <a:latin typeface="Comic Sans MS"/>
              </a:rPr>
              <a:t>vs</a:t>
            </a:r>
            <a:r>
              <a:rPr b="0" lang="en-GB" sz="4000" spc="-1" strike="noStrike">
                <a:solidFill>
                  <a:srgbClr val="ffcc66"/>
                </a:solidFill>
                <a:latin typeface="Comic Sans MS"/>
              </a:rPr>
              <a:t> Cluster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5638320"/>
            <a:ext cx="5257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1800" spc="-1" strike="noStrike">
                <a:solidFill>
                  <a:srgbClr val="ff0033"/>
                </a:solidFill>
                <a:latin typeface="Arial"/>
              </a:rPr>
              <a:t>central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disk/bulge 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are the young st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6640" y="113364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41920" y="56386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untschner et al.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2560" y="1614600"/>
            <a:ext cx="67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7880" y="1600200"/>
            <a:ext cx="90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65240" y="3608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33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04880" y="2522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yo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935840" cy="195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cc66"/>
                </a:solidFill>
                <a:latin typeface="Comic Sans MS"/>
              </a:rPr>
              <a:t>What do we know?</a:t>
            </a:r>
            <a:br>
              <a:rPr sz="4000"/>
            </a:br>
            <a:br>
              <a:rPr sz="4000"/>
            </a:br>
            <a:r>
              <a:rPr b="0" i="1" lang="en-GB" sz="3200" spc="-1" strike="noStrike">
                <a:solidFill>
                  <a:srgbClr val="ff0033"/>
                </a:solidFill>
                <a:latin typeface="Comic Sans MS"/>
              </a:rPr>
              <a:t>Clues from intermediate redshift</a:t>
            </a:r>
            <a:endParaRPr b="0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79864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utcher Oeml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ffec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=0.5 galaxies are bluer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laxies in similar clusters at z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rich clusters, spiral galaxies are 2-3 times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ore common at z=0.5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han at z=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0 galaxies are correspondingly less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1840" y="96840"/>
            <a:ext cx="8497800" cy="11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would we like to know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92000" y="113328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omic Sans MS"/>
              </a:rPr>
              <a:t>As a function of luminos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omic Sans MS"/>
              </a:rPr>
              <a:t>Hubble type and environment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ere galaxies assembled? What are the ages &amp; metallicities of their stellar population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between compon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, how common are young disk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the connection between the kinematics and stellar populations of the galaxie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Two complementary approache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303280"/>
            <a:ext cx="6478560" cy="43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ing the </a:t>
            </a:r>
            <a:r>
              <a:rPr b="1" i="1" lang="en-US" sz="2800" spc="-1" strike="noStrike">
                <a:solidFill>
                  <a:srgbClr val="ff0033"/>
                </a:solidFill>
                <a:latin typeface="Arial"/>
              </a:rPr>
              <a:t>fossil evi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nearby galaxies – end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precision work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ar away, i.e. </a:t>
            </a:r>
            <a:r>
              <a:rPr b="1" i="1" lang="en-US" sz="2800" spc="-1" strike="noStrike">
                <a:solidFill>
                  <a:srgbClr val="ff0033"/>
                </a:solidFill>
                <a:latin typeface="Arial"/>
              </a:rPr>
              <a:t>back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large telescopes (VLT, Gemi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match progenitor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981080" cy="173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463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33636" t="0" r="32792" b="0"/>
          <a:stretch/>
        </p:blipFill>
        <p:spPr>
          <a:xfrm>
            <a:off x="206280" y="3917880"/>
            <a:ext cx="2971800" cy="2886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The SAURON Sampl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15235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resentative sample of 72 nearby E/S0/Sa (selected from a parent sample of 32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z &lt; 3000 k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C: -6° &lt; d &lt; +64° and |b|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5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18 mag (factor of 50 in luminos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4 E, 24 S0, 24 Sa (each 12 cluster, 12 fie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2/72 (100%) galaxies obser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33"/>
                </a:solidFill>
                <a:latin typeface="Arial"/>
              </a:rPr>
              <a:t>~150 000 independent spec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66429" b="0"/>
          <a:stretch/>
        </p:blipFill>
        <p:spPr>
          <a:xfrm>
            <a:off x="206280" y="1219320"/>
            <a:ext cx="2971800" cy="288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8880" y="640080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Sa galaxie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6:39:10Z</dcterms:created>
  <dc:creator>013014 </dc:creator>
  <dc:description/>
  <dc:language>en-US</dc:language>
  <cp:lastModifiedBy>fellow</cp:lastModifiedBy>
  <dcterms:modified xsi:type="dcterms:W3CDTF">2002-07-08T09:57:16Z</dcterms:modified>
  <cp:revision>175</cp:revision>
  <dc:subject/>
  <dc:title>The SAURON Survey</dc:title>
</cp:coreProperties>
</file>