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2D9E-7F56-436A-BC03-FE84178FE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2B6F-D0CF-477C-88F6-4709F635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079F-7B85-4193-AADC-2DAB129BE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94BB-B5DF-428B-9DE0-540A3C8D8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D68-D993-4A10-900E-4F2DE5D4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EC54-B464-48F9-A56F-2E87CAD3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E731-9C26-4250-9974-ED6B5538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6833-0D70-43F7-A489-92ABF521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636-FEEF-4B15-AAE2-5A5F4CD9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E6E3-9CC2-4731-B67C-07DA769D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DAB4-5674-47D9-8753-571B0757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7FE0-E56E-4082-81AC-460B9B65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2C48-414E-41C2-B751-611FEE40E1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981080" cy="685800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003366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267080" y="556272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93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981080" y="2743200"/>
            <a:ext cx="7162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6600"/>
                </a:solidFill>
                <a:latin typeface="Bookman Old Style"/>
              </a:rPr>
              <a:t>FLAMES/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5812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6600"/>
                </a:solidFill>
                <a:latin typeface="Bookman Old Style"/>
              </a:rPr>
              <a:t>GIRAFF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7720" y="64008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0000"/>
                </a:solidFill>
                <a:latin typeface="Courier New"/>
              </a:rPr>
              <a:t>** Euro3D kick-off meeting Jul. 2</a:t>
            </a:r>
            <a:r>
              <a:rPr b="1" i="1" lang="fr-FR" sz="1800" spc="-1" strike="noStrike">
                <a:solidFill>
                  <a:srgbClr val="ff0000"/>
                </a:solidFill>
                <a:latin typeface="Courier New"/>
              </a:rPr>
              <a:t>-4</a:t>
            </a:r>
            <a:r>
              <a:rPr b="1" i="1" lang="en-GB" sz="1800" spc="-1" strike="noStrike">
                <a:solidFill>
                  <a:srgbClr val="ff0000"/>
                </a:solidFill>
                <a:latin typeface="Courier New"/>
              </a:rPr>
              <a:t>, 2002 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ogo-definitif" descr=""/>
          <p:cNvPicPr/>
          <p:nvPr/>
        </p:nvPicPr>
        <p:blipFill>
          <a:blip r:embed="rId2"/>
          <a:stretch/>
        </p:blipFill>
        <p:spPr>
          <a:xfrm>
            <a:off x="3886200" y="152280"/>
            <a:ext cx="1878120" cy="900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001000" y="7621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ourier New"/>
              </a:rPr>
              <a:t>GEPI 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Courier New"/>
              </a:rPr>
              <a:t>L. Che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190512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6600"/>
                </a:solidFill>
                <a:latin typeface="Bookman Old Style"/>
              </a:rPr>
              <a:t>The E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4648320"/>
            <a:ext cx="7162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006600"/>
                </a:solidFill>
                <a:latin typeface="Bookman Old Style"/>
              </a:rPr>
              <a:t>instru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18288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ogoGepi" descr=""/>
          <p:cNvPicPr/>
          <p:nvPr/>
        </p:nvPicPr>
        <p:blipFill>
          <a:blip r:embed="rId3"/>
          <a:stretch/>
        </p:blipFill>
        <p:spPr>
          <a:xfrm>
            <a:off x="8458200" y="1522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pectro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8458200" cy="60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3190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286000" y="236232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DanAtOzpozPlatform_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3808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Bookman Old Style"/>
              </a:rPr>
              <a:t>GIRAFFE data reduction &amp; analysis soft.</a:t>
            </a: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1066680"/>
            <a:ext cx="8077320" cy="5105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5760" y="1371600"/>
            <a:ext cx="749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Developped at Geneva Obs. (+ Lausanne Univ.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Paris Obs., 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Bookman Old Style"/>
              </a:rPr>
              <a:t>(P.I. : A. Blech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1760" y="2743200"/>
            <a:ext cx="790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Bookman Old Style"/>
              </a:rPr>
              <a:t>BLDRS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- bias/dark subtraction, CRHs remov., SL adju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- spectra localization/ex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- FF correction,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 calib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- sky subtraction &amp; flux cal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88480" y="651672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6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1143000"/>
            <a:ext cx="8076960" cy="487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080" y="1523880"/>
            <a:ext cx="758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Bookman Old Style"/>
              </a:rPr>
              <a:t>ADA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- Cross-Correlation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- Projected rotational vel., metallicity (cool st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- Spectral ind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- Equivalent width of absorption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- Image re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88480" y="651672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6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143000"/>
            <a:ext cx="8153280" cy="3352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5640" y="1523880"/>
            <a:ext cx="747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Bookman Old Style"/>
              </a:rPr>
              <a:t>More informations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- http://www.eso.org/instruments/fl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- http://giraobs.obspm.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- http://obswww.unige.ch/Instruments/GIRAF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8480" y="651672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6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FLAMES" descr=""/>
          <p:cNvPicPr/>
          <p:nvPr/>
        </p:nvPicPr>
        <p:blipFill>
          <a:blip r:embed="rId1"/>
          <a:stretch/>
        </p:blipFill>
        <p:spPr>
          <a:xfrm>
            <a:off x="2286000" y="609480"/>
            <a:ext cx="5334120" cy="52056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52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9900"/>
                </a:solidFill>
                <a:latin typeface="Courier New"/>
              </a:rPr>
              <a:t>** ESO FLAMES Facility *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523880"/>
            <a:ext cx="1752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Bookman Old Style"/>
              </a:rPr>
              <a:t>Australis c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Bookman Old Style"/>
              </a:rPr>
              <a:t>(P.I.s : Taylor K.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Bookman Old Style"/>
              </a:rPr>
              <a:t>Colless M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9900"/>
                </a:solidFill>
                <a:latin typeface="Courier New"/>
              </a:rPr>
              <a:t>FLAMES </a:t>
            </a:r>
            <a:r>
              <a:rPr b="1" i="1" lang="en-GB" sz="1800" spc="-1" strike="noStrike">
                <a:solidFill>
                  <a:srgbClr val="009900"/>
                </a:solidFill>
                <a:latin typeface="Symbol"/>
                <a:ea typeface="Symbol"/>
              </a:rPr>
              <a:t></a:t>
            </a:r>
            <a:r>
              <a:rPr b="1" i="1" lang="en-GB" sz="1800" spc="-1" strike="noStrike">
                <a:solidFill>
                  <a:srgbClr val="009900"/>
                </a:solidFill>
                <a:latin typeface="Courier New"/>
              </a:rPr>
              <a:t> Fibre Large Array Multi Element Spectro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0160" y="609480"/>
            <a:ext cx="16880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Bookman Old Style"/>
              </a:rPr>
              <a:t>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Bookman Old Style"/>
              </a:rPr>
              <a:t>(P.I. : Pasquini L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33520"/>
            <a:ext cx="1752480" cy="685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1523880"/>
            <a:ext cx="1981440" cy="7621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2280" y="3733920"/>
            <a:ext cx="2971800" cy="838080"/>
            <a:chOff x="152280" y="3733920"/>
            <a:chExt cx="2971800" cy="838080"/>
          </a:xfrm>
        </p:grpSpPr>
        <p:sp>
          <p:nvSpPr>
            <p:cNvPr id="61" name=""/>
            <p:cNvSpPr/>
            <p:nvPr/>
          </p:nvSpPr>
          <p:spPr>
            <a:xfrm>
              <a:off x="231480" y="3733920"/>
              <a:ext cx="269532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Bookman Old Style"/>
                </a:rPr>
                <a:t>ES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Bookman Old Style"/>
                </a:rPr>
                <a:t>Paris Obs. (P.I. : Hammer F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Bookman Old Style"/>
                </a:rPr>
                <a:t>Geneva Obs. (P.I. : Blecha A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2280" y="3733920"/>
              <a:ext cx="2971800" cy="8380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flipH="1">
            <a:off x="2133360" y="3352680"/>
            <a:ext cx="22860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33720" y="1828800"/>
            <a:ext cx="22860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81080" y="914400"/>
            <a:ext cx="3812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629400" y="5715000"/>
            <a:ext cx="2332080" cy="580680"/>
            <a:chOff x="6629400" y="5715000"/>
            <a:chExt cx="2332080" cy="580680"/>
          </a:xfrm>
        </p:grpSpPr>
        <p:sp>
          <p:nvSpPr>
            <p:cNvPr id="67" name=""/>
            <p:cNvSpPr/>
            <p:nvPr/>
          </p:nvSpPr>
          <p:spPr>
            <a:xfrm>
              <a:off x="6730560" y="5715000"/>
              <a:ext cx="21207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Bookman Old Style"/>
                </a:rPr>
                <a:t>+ Ital-FLAMES c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Bookman Old Style"/>
                </a:rPr>
                <a:t>   </a:t>
              </a:r>
              <a:r>
                <a:rPr b="1" lang="fr-FR" sz="1600" spc="-1" strike="noStrike">
                  <a:solidFill>
                    <a:srgbClr val="000000"/>
                  </a:solidFill>
                  <a:latin typeface="Bookman Old Style"/>
                </a:rPr>
                <a:t>(</a:t>
              </a:r>
              <a:r>
                <a:rPr b="1" lang="fr-FR" sz="1400" spc="-1" strike="noStrike">
                  <a:solidFill>
                    <a:srgbClr val="000000"/>
                  </a:solidFill>
                  <a:latin typeface="Bookman Old Style"/>
                </a:rPr>
                <a:t>P.I. : Cacciari C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29400" y="5715000"/>
              <a:ext cx="2332080" cy="53388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5800" y="2438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Medium and High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Resol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R ~ 5500-3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33526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3 obs.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480" y="3962520"/>
            <a:ext cx="149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imes New Roman"/>
              </a:rPr>
              <a:t>MED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imes New Roman"/>
              </a:rPr>
              <a:t>IF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3300"/>
                </a:solidFill>
                <a:latin typeface="Times New Roman"/>
              </a:rPr>
              <a:t>ARG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45720" y="1752480"/>
            <a:ext cx="26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= 370-900 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371600"/>
            <a:ext cx="7925040" cy="4876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920" y="652140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6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10240" y="304920"/>
            <a:ext cx="3323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ff"/>
                </a:solidFill>
                <a:latin typeface="Bookman Old Style"/>
              </a:rPr>
              <a:t>GIRAFF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5181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f.o.v = 25 arcmin diame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man Old Style"/>
              </a:rPr>
              <a:t>25 2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figMed1" descr=""/>
          <p:cNvPicPr/>
          <p:nvPr/>
        </p:nvPicPr>
        <p:blipFill>
          <a:blip r:embed="rId1"/>
          <a:stretch/>
        </p:blipFill>
        <p:spPr>
          <a:xfrm>
            <a:off x="1752480" y="847800"/>
            <a:ext cx="6019920" cy="6010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47920" y="914400"/>
            <a:ext cx="0" cy="59436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man Old Style"/>
              </a:rPr>
              <a:t>25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8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man Old Style"/>
              </a:rPr>
              <a:t>MEDUSA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52280" y="1828800"/>
            <a:ext cx="514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132 individual fibres for objects and 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808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ff"/>
                </a:solidFill>
                <a:latin typeface="Bookman Old Style"/>
              </a:rPr>
              <a:t>MEDUSA</a:t>
            </a: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35053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Fibre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= 1.2” on the 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2680" y="43434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R ~ 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5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500  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to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1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280" y="27432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5 fib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res for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 calib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1600200"/>
            <a:ext cx="4724640" cy="3657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9920" y="652140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6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Bouton_Meduse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41148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ifueso2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4114800" cy="40737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52280" y="1295280"/>
            <a:ext cx="4724640" cy="4114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1600200"/>
            <a:ext cx="514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15 deployable arra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(20 fibres/bund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3124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5 individual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fib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3733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Fibre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= 0.52” on the 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6760" y="472428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R ~ 9000  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to 30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2514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15 individual sky fib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5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ff"/>
                </a:solidFill>
                <a:latin typeface="Bookman Old Style"/>
              </a:rPr>
              <a:t>IFU(s)</a:t>
            </a: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8480" y="651672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6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figHDFS10" descr=""/>
          <p:cNvPicPr/>
          <p:nvPr/>
        </p:nvPicPr>
        <p:blipFill>
          <a:blip r:embed="rId1"/>
          <a:stretch/>
        </p:blipFill>
        <p:spPr>
          <a:xfrm>
            <a:off x="228600" y="100080"/>
            <a:ext cx="8610480" cy="6757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argus3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876920" cy="3020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1522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ff"/>
                </a:solidFill>
                <a:latin typeface="Bookman Old Style"/>
              </a:rPr>
              <a:t>ARGUS</a:t>
            </a:r>
            <a:r>
              <a:rPr b="1" lang="fr-FR" sz="6000" spc="-1" strike="noStrike">
                <a:solidFill>
                  <a:srgbClr val="000000"/>
                </a:solidFill>
                <a:latin typeface="Bookman Old Style"/>
              </a:rPr>
              <a:t> 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1295280"/>
            <a:ext cx="4038840" cy="457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1600200"/>
            <a:ext cx="441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1 single array o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22x14 channels (300 fibr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514600"/>
            <a:ext cx="472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15 individu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sky fib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3429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5 individual </a:t>
            </a: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fib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8862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2 spatial sampling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6760" y="5334120"/>
            <a:ext cx="30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R ~ 9000  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to 30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8480" y="4343400"/>
            <a:ext cx="167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= 0.52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11.5”x7.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15880" y="4343400"/>
            <a:ext cx="149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fr-FR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= 0.3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6.6”x4.2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4197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88480" y="651672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6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0960" y="3429000"/>
            <a:ext cx="772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Bookman Old Style"/>
              </a:rPr>
              <a:t>  </a:t>
            </a:r>
            <a:r>
              <a:rPr b="1" lang="fr-FR" sz="2000" spc="-1" strike="noStrike">
                <a:solidFill>
                  <a:srgbClr val="ff0000"/>
                </a:solidFill>
                <a:latin typeface="Bookman Old Style"/>
              </a:rPr>
              <a:t>Present status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Bookman Old Style"/>
              </a:rPr>
              <a:t>- commissioning phases at V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Bookman Old Style"/>
              </a:rPr>
              <a:t>- first light</a:t>
            </a:r>
            <a:r>
              <a:rPr b="1" lang="fr-FR" sz="2400" spc="-1" strike="noStrike">
                <a:solidFill>
                  <a:srgbClr val="ff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Bookman Old Style"/>
              </a:rPr>
              <a:t>(see</a:t>
            </a:r>
            <a:r>
              <a:rPr b="1" lang="fr-FR" sz="1800" spc="-1" strike="noStrike">
                <a:solidFill>
                  <a:srgbClr val="ff0000"/>
                </a:solidFill>
                <a:latin typeface="Bookman Old Style"/>
              </a:rPr>
              <a:t> </a:t>
            </a:r>
            <a:r>
              <a:rPr b="0" lang="fr-FR" sz="1800" spc="-1" strike="noStrike">
                <a:solidFill>
                  <a:srgbClr val="ff0000"/>
                </a:solidFill>
                <a:latin typeface="Bookman Old Style"/>
              </a:rPr>
              <a:t>http://www.hq.eso.org/outreach/press-rel/pr-2002/pr-13-02.htm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920" y="65880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Bookman Old Style"/>
              </a:rPr>
              <a:t>Performances &amp; limits </a:t>
            </a:r>
            <a:r>
              <a:rPr b="1" lang="en-GB" sz="2000" spc="-1" strike="noStrike">
                <a:solidFill>
                  <a:srgbClr val="000000"/>
                </a:solidFill>
                <a:latin typeface="Bookman Old Styl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143000"/>
            <a:ext cx="5333760" cy="2057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00" y="1523880"/>
            <a:ext cx="35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ookman Old Style"/>
              </a:rPr>
              <a:t>Total efficiency : ~ 8-10%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7840" y="2182680"/>
            <a:ext cx="5022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Wingdings"/>
                <a:ea typeface="Wingdings"/>
              </a:rPr>
              <a:t></a:t>
            </a:r>
            <a:r>
              <a:rPr b="1" lang="en-GB" sz="2000" spc="-1" strike="noStrike">
                <a:solidFill>
                  <a:srgbClr val="0000ff"/>
                </a:solidFill>
                <a:latin typeface="Bookman Old Style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Bookman Old Style"/>
              </a:rPr>
              <a:t>Maximum sens. : </a:t>
            </a:r>
            <a:r>
              <a:rPr b="1" lang="fr-F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GB" sz="2000" spc="-1" strike="noStrike">
                <a:solidFill>
                  <a:srgbClr val="000000"/>
                </a:solidFill>
                <a:latin typeface="Bookman Old Style"/>
              </a:rPr>
              <a:t> ~ 600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Bookman Old Style"/>
              </a:rPr>
              <a:t>(but also optimized in the blue part</a:t>
            </a:r>
            <a:r>
              <a:rPr b="1" lang="en-GB" sz="2400" spc="-1" strike="noStrike">
                <a:solidFill>
                  <a:srgbClr val="000000"/>
                </a:solidFill>
                <a:latin typeface="Bookman Old Style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8480" y="6516720"/>
            <a:ext cx="554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** Euro3D kick-off meeting Jul. 2</a:t>
            </a:r>
            <a:r>
              <a:rPr b="1" i="1" lang="fr-FR" sz="1600" spc="-1" strike="noStrike">
                <a:solidFill>
                  <a:srgbClr val="009900"/>
                </a:solidFill>
                <a:latin typeface="Courier New"/>
              </a:rPr>
              <a:t>-4</a:t>
            </a:r>
            <a:r>
              <a:rPr b="1" i="1" lang="en-GB" sz="1600" spc="-1" strike="noStrike">
                <a:solidFill>
                  <a:srgbClr val="009900"/>
                </a:solidFill>
                <a:latin typeface="Courier New"/>
              </a:rPr>
              <a:t>, 2002 *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9800" y="5108400"/>
            <a:ext cx="70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ff"/>
                </a:solidFill>
                <a:latin typeface="Bookman Old Style"/>
              </a:rPr>
              <a:t>Following pictures kindly provided by ESO &amp; Paris Obs. staff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00" y="5486400"/>
            <a:ext cx="73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Bookman Old Style"/>
              </a:rPr>
              <a:t>1) view of the spectrograph; 2) fibres assembly at one OZPOZ pla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Bookman Old Style"/>
              </a:rPr>
              <a:t>3) view of OZPOZ at the telesc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8:39:23Z</dcterms:created>
  <dc:creator>Lorenzo</dc:creator>
  <dc:description/>
  <dc:language>en-US</dc:language>
  <cp:lastModifiedBy>cayatte</cp:lastModifiedBy>
  <cp:lastPrinted>2002-06-28T06:38:33Z</cp:lastPrinted>
  <dcterms:modified xsi:type="dcterms:W3CDTF">2002-07-18T05:15:42Z</dcterms:modified>
  <cp:revision>304</cp:revision>
  <dc:subject/>
  <dc:title>FLAMES/GIRAFFE:   Euro3D, kickoff meeting, instr.</dc:title>
</cp:coreProperties>
</file>