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209-381E-4B63-8579-AA8B99C2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246-25F7-4315-B03A-309E951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C55-90E8-4512-9C5E-585CDFEA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101-EC0D-4D6F-84EC-D1C593B4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088-C06A-4691-A3E3-3E16D3FB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998-F3D5-4D02-963C-22BDAC36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22D-F8B7-4B0D-A03B-54C07E5F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974-C3DE-4B6D-9D7B-802E23C8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FFC-667C-4656-8F3A-DC4BC5B7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F78-CD36-43DC-9D93-8DA063EC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7C8-26C8-414B-B80C-BA699030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178-FD46-4EB2-AF68-F99915C6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0732-D64A-434F-A0C2-3815CB934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oto3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33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-definitif" descr=""/>
          <p:cNvPicPr/>
          <p:nvPr/>
        </p:nvPicPr>
        <p:blipFill>
          <a:blip r:embed="rId2"/>
          <a:stretch/>
        </p:blipFill>
        <p:spPr>
          <a:xfrm>
            <a:off x="457200" y="5562720"/>
            <a:ext cx="1878120" cy="90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17720" y="64008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** Euro3D kick-off meeting Jul. 2</a:t>
            </a:r>
            <a:r>
              <a:rPr b="1" i="1" lang="fr-FR" sz="1800" spc="-1" strike="noStrike">
                <a:solidFill>
                  <a:srgbClr val="ff0000"/>
                </a:solidFill>
                <a:latin typeface="Courier New"/>
              </a:rPr>
              <a:t>-4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, 2002 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46483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6600"/>
                </a:solidFill>
                <a:latin typeface="Bookman Old Style"/>
              </a:rPr>
              <a:t>at Paris Obs. (GEPI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oto4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81680" y="8380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urier New"/>
              </a:rPr>
              <a:t>GEPI - L. Che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66688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6600"/>
                </a:solidFill>
                <a:latin typeface="Bookman Old Style"/>
              </a:rPr>
              <a:t>3D spectroscop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Gepi" descr=""/>
          <p:cNvPicPr/>
          <p:nvPr/>
        </p:nvPicPr>
        <p:blipFill>
          <a:blip r:embed="rId4"/>
          <a:stretch/>
        </p:blipFill>
        <p:spPr>
          <a:xfrm>
            <a:off x="7543800" y="152280"/>
            <a:ext cx="69696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1066680"/>
            <a:ext cx="480060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Bookman Old Style"/>
              </a:rPr>
              <a:t>2-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Limits</a:t>
            </a:r>
            <a:r>
              <a:rPr b="1" lang="fr-FR" sz="1800" spc="-1" strike="noStrike">
                <a:solidFill>
                  <a:srgbClr val="000000"/>
                </a:solidFill>
                <a:latin typeface="Bookman Old Style"/>
              </a:rPr>
              <a:t> :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slit width 1</a:t>
            </a:r>
            <a:r>
              <a:rPr b="1" lang="en-GB" sz="1800" spc="-1" strike="noStrike">
                <a:solidFill>
                  <a:srgbClr val="3333cc"/>
                </a:solidFill>
                <a:latin typeface="Bookman Old Style"/>
              </a:rPr>
              <a:t>” ( </a:t>
            </a:r>
            <a:r>
              <a:rPr b="1" lang="en-GB" sz="1800" spc="-1" strike="noStrike">
                <a:solidFill>
                  <a:srgbClr val="3333cc"/>
                </a:solidFill>
                <a:latin typeface="Symbol"/>
                <a:ea typeface="Symbol"/>
              </a:rPr>
              <a:t></a:t>
            </a:r>
            <a:r>
              <a:rPr b="1" lang="en-GB" sz="1800" spc="-1" strike="noStrike">
                <a:solidFill>
                  <a:srgbClr val="3333cc"/>
                </a:solidFill>
                <a:latin typeface="Bookman Old Style"/>
              </a:rPr>
              <a:t> 5kpc at z=0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slit eff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see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slit misalignment vs major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66688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23200" y="1828800"/>
            <a:ext cx="320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ff0000"/>
                </a:solidFill>
                <a:latin typeface="Bookman Old Style"/>
              </a:rPr>
              <a:t> “</a:t>
            </a:r>
            <a:r>
              <a:rPr b="1" lang="fr-FR" sz="1800" spc="-1" strike="noStrike">
                <a:solidFill>
                  <a:srgbClr val="ff0000"/>
                </a:solidFill>
                <a:latin typeface="Bookman Old Style"/>
              </a:rPr>
              <a:t>beam-smearing effect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Bookman Old Style"/>
              </a:rPr>
              <a:t>kinematical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Bookman Old Style"/>
              </a:rPr>
              <a:t>   </a:t>
            </a:r>
            <a:r>
              <a:rPr b="1" lang="fr-FR" sz="1800" spc="-1" strike="noStrike">
                <a:solidFill>
                  <a:srgbClr val="ff0000"/>
                </a:solidFill>
                <a:latin typeface="Bookman Old Style"/>
              </a:rPr>
              <a:t>not well determined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Bookman Old Style"/>
              </a:rPr>
              <a:t>plateau not reached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5105520"/>
            <a:ext cx="1066680" cy="0"/>
          </a:xfrm>
          <a:prstGeom prst="line">
            <a:avLst/>
          </a:prstGeom>
          <a:ln w="174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37160" y="4724280"/>
            <a:ext cx="587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009900"/>
                </a:solidFill>
                <a:latin typeface="Bookman Old Style"/>
              </a:rPr>
              <a:t>Kinematics at intermediate redshif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009900"/>
                </a:solidFill>
                <a:latin typeface="Bookman Old Style"/>
              </a:rPr>
              <a:t>needs 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447920"/>
            <a:ext cx="4114800" cy="25146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1523880"/>
            <a:ext cx="3429000" cy="2362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LogoGepi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76920" y="658008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Courier New"/>
              </a:rPr>
              <a:t>** Euro3D kick-off meeting Jul. 2</a:t>
            </a:r>
            <a:r>
              <a:rPr b="1" i="1" lang="fr-FR" sz="1200" spc="-1" strike="noStrike">
                <a:solidFill>
                  <a:srgbClr val="000000"/>
                </a:solidFill>
                <a:latin typeface="Courier New"/>
              </a:rPr>
              <a:t>-4</a:t>
            </a:r>
            <a:r>
              <a:rPr b="1" i="1" lang="en-GB" sz="1200" spc="-1" strike="noStrike">
                <a:solidFill>
                  <a:srgbClr val="000000"/>
                </a:solidFill>
                <a:latin typeface="Courier New"/>
              </a:rPr>
              <a:t>, 2002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champvit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59" name="galaxy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27560" y="651672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6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105520"/>
            <a:ext cx="7848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Bookman Old Style"/>
              </a:rPr>
              <a:t>Illustration of what could be obtained with a HDFS galaxy (z = 0.5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Bookman Old Style"/>
              </a:rPr>
              <a:t>or [OII]</a:t>
            </a:r>
            <a:r>
              <a:rPr b="1" lang="fr-FR" sz="1600" spc="-1" strike="noStrike" baseline="-25000">
                <a:solidFill>
                  <a:srgbClr val="3333cc"/>
                </a:solidFill>
                <a:latin typeface="Bookman Old Style"/>
              </a:rPr>
              <a:t>3727 </a:t>
            </a:r>
            <a:r>
              <a:rPr b="1" lang="fr-FR" sz="1600" spc="-1" strike="noStrike">
                <a:solidFill>
                  <a:srgbClr val="3333cc"/>
                </a:solidFill>
                <a:latin typeface="Bookman Old Style"/>
              </a:rPr>
              <a:t>at 5888Å) and a warped velocity field model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17600" y="23623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Bookman Old Style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04840" y="2705040"/>
            <a:ext cx="381240" cy="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85720" y="2705040"/>
            <a:ext cx="381240" cy="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800600" y="3505320"/>
            <a:ext cx="0" cy="550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2280" y="304812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533520"/>
            <a:ext cx="594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Bookman Old Style"/>
              </a:rPr>
              <a:t>3-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GIRAFFE : IFUs &amp; ARGUS modes</a:t>
            </a:r>
            <a:r>
              <a:rPr b="1" lang="fr-FR" sz="24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LogoGepi" descr=""/>
          <p:cNvPicPr/>
          <p:nvPr/>
        </p:nvPicPr>
        <p:blipFill>
          <a:blip r:embed="rId3"/>
          <a:stretch/>
        </p:blipFill>
        <p:spPr>
          <a:xfrm>
            <a:off x="8370720" y="0"/>
            <a:ext cx="773280" cy="773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0880" y="1066680"/>
            <a:ext cx="7772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Bookman Old Style"/>
              </a:rPr>
              <a:t>We are developping a tool to recover high angular resolution velocity fields of intermediate redshift galaxies. </a:t>
            </a: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724280" cy="4599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74720" y="262080"/>
            <a:ext cx="49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800" y="457200"/>
            <a:ext cx="436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3300"/>
                </a:solidFill>
                <a:uFillTx/>
                <a:latin typeface="Times New Roman"/>
              </a:rPr>
              <a:t>LIR Galaxies  detected by 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8520" y="48006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”x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267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LogoGepi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876920" y="658008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2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0320" y="2133720"/>
            <a:ext cx="4598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2000" spc="-1" strike="noStrike">
                <a:solidFill>
                  <a:srgbClr val="009900"/>
                </a:solidFill>
                <a:latin typeface="Bookman Old Style"/>
              </a:rPr>
              <a:t>Key questions for galaxy evolu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3560" y="2743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7360" y="3763800"/>
            <a:ext cx="597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Tully-Fisher relation and mass of 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5200" y="3886200"/>
            <a:ext cx="1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4040" y="4343400"/>
            <a:ext cx="597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Star formation coupled with dynamical 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5880" y="3276720"/>
            <a:ext cx="331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Merging rate vs. red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3720" y="4538520"/>
            <a:ext cx="29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4960" y="765000"/>
            <a:ext cx="31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1440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Bookman Old Style"/>
              </a:rPr>
              <a:t>3D spectroscopy with GIRAF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50120" y="2575080"/>
            <a:ext cx="468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in field and cluster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disk, compact galaxies, LIRGs, ULIRGs, 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LogoGepi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876920" y="658008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2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19400" y="1752480"/>
            <a:ext cx="703692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Bookman Old Style"/>
              </a:rPr>
              <a:t>I. Kinematics &amp; Dynamics of nearby galax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Bookman Old Style"/>
              </a:rPr>
              <a:t>   </a:t>
            </a:r>
            <a:r>
              <a:rPr b="1" lang="fr-FR" sz="2000" spc="-1" strike="noStrike">
                <a:solidFill>
                  <a:srgbClr val="ff0000"/>
                </a:solidFill>
                <a:latin typeface="Bookman Old Style"/>
              </a:rPr>
              <a:t>(in tight collaboration with a Marseille Obs. 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1- 3D obs. of galaxies vs magnetic field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ex : NGC 3627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2- 3D observations of galaxies in dense environment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the case of the Virgo Clu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ex : NGC 4522 - NGC 44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4480" y="4876920"/>
            <a:ext cx="5723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Bookman Old Style"/>
              </a:rPr>
              <a:t>II. Kinematics &amp; Dynamics of distant galax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Bookman Old Style"/>
              </a:rPr>
              <a:t>     </a:t>
            </a:r>
            <a:r>
              <a:rPr b="1" lang="fr-FR" sz="2000" spc="-1" strike="noStrike">
                <a:solidFill>
                  <a:srgbClr val="ff0000"/>
                </a:solidFill>
                <a:latin typeface="Bookman Old Style"/>
              </a:rPr>
              <a:t>with GIRAF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658332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2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5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3D spectroscopy at GE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Bookman Old Style"/>
              </a:rPr>
              <a:t>C. Balkowski, V. Cayatte, L. Chemin, H. Flores, F. Ham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Gepi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7800" y="1386000"/>
            <a:ext cx="838368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200" y="1432080"/>
            <a:ext cx="32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560" y="2743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1160" y="2133720"/>
            <a:ext cx="83552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24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Bookman Old Style"/>
              </a:rPr>
              <a:t>Understand the relation between the magnetic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Bookman Old Style"/>
              </a:rPr>
              <a:t>component and the ionized gas kinemat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24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Bookman Old Style"/>
              </a:rPr>
              <a:t>3D dynamo simulation of B and radio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24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Bookman Old Style"/>
              </a:rPr>
              <a:t>example = NGC 36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6668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Bookman Old Style"/>
              </a:rPr>
              <a:t>I. Kinematics &amp; Dynamics of Nearby Galaxies</a:t>
            </a:r>
            <a:r>
              <a:rPr b="0" lang="fr-FR" sz="2800" spc="-1" strike="noStrike">
                <a:solidFill>
                  <a:srgbClr val="ff0000"/>
                </a:solidFill>
                <a:latin typeface="Bookman Old Style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209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Bookman Old Style"/>
              </a:rPr>
              <a:t>(coll. with Urbanik M., Soida M., Chyzy K., Otmianowska-Mazur 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Bookman Old Style"/>
              </a:rPr>
              <a:t>Astron. Obs. Krakow, Pol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1-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3D obs. of galaxies vs magnetic field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LogoGepi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6920" y="658008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2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soida" descr=""/>
          <p:cNvPicPr/>
          <p:nvPr/>
        </p:nvPicPr>
        <p:blipFill>
          <a:blip r:embed="rId1"/>
          <a:stretch/>
        </p:blipFill>
        <p:spPr>
          <a:xfrm>
            <a:off x="0" y="685800"/>
            <a:ext cx="3935520" cy="5467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6920" y="609588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Soida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100400" y="228600"/>
            <a:ext cx="5043600" cy="5473800"/>
            <a:chOff x="4100400" y="228600"/>
            <a:chExt cx="5043600" cy="5473800"/>
          </a:xfrm>
        </p:grpSpPr>
        <p:pic>
          <p:nvPicPr>
            <p:cNvPr id="67" name="velfm66_1metf" descr=""/>
            <p:cNvPicPr/>
            <p:nvPr/>
          </p:nvPicPr>
          <p:blipFill>
            <a:blip r:embed="rId2"/>
            <a:stretch/>
          </p:blipFill>
          <p:spPr>
            <a:xfrm>
              <a:off x="4100400" y="762120"/>
              <a:ext cx="5043600" cy="49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943600" y="2286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" name="LogoGepi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07480" y="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GC 36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0848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Chemin et al. in prep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8160" y="380880"/>
            <a:ext cx="19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FP H</a:t>
            </a:r>
            <a:r>
              <a:rPr b="1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  velocity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5920" y="22860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32800" y="5791320"/>
            <a:ext cx="40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(cube 256x256x24, FSR=380 km/s, ~1”/pix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658008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2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990720"/>
            <a:ext cx="7623360" cy="5445000"/>
          </a:xfrm>
          <a:prstGeom prst="rect">
            <a:avLst/>
          </a:prstGeom>
          <a:solidFill>
            <a:srgbClr val="0a3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7360" y="3276720"/>
            <a:ext cx="48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. Balkowski, V. Cayatte, L. Chemin (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3400" y="3581280"/>
            <a:ext cx="122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, P. Am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97720" y="3351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8320" y="3809880"/>
            <a:ext cx="146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, O. Garr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6960" y="3809880"/>
            <a:ext cx="207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, M. Marceli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3400" y="4114800"/>
            <a:ext cx="170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B. Vollmer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02560" y="4114800"/>
            <a:ext cx="207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&amp; C. Carignan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83480" y="36003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9040" y="3581280"/>
            <a:ext cx="146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, A. Bose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8040" y="358128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, J. Boulesteix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2320" y="358128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. Ada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2680" y="3809880"/>
            <a:ext cx="122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J.-L. G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06040" y="4554360"/>
            <a:ext cx="4359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4f4c9"/>
                </a:solidFill>
                <a:latin typeface="Courier New"/>
              </a:rPr>
              <a:t>1: Observatoire de Paris, GEPI, 92195 Meudon, F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45280" y="4729320"/>
            <a:ext cx="4275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4f4c9"/>
                </a:solidFill>
                <a:latin typeface="Courier New"/>
              </a:rPr>
              <a:t>2: Observatoire Astronomique de Marseille-Proven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86120" y="4903920"/>
            <a:ext cx="37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4f4c9"/>
                </a:solidFill>
                <a:latin typeface="Courier New"/>
              </a:rPr>
              <a:t>2, Place Le Verrier, 13248 Marseille, FRAN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23280" y="5078520"/>
            <a:ext cx="536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4f4c9"/>
                </a:solidFill>
                <a:latin typeface="Courier New"/>
              </a:rPr>
              <a:t>3: Max-Planck-Institut für Radioastronomie, 53121 Bonn, GERMAN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6320" y="5253120"/>
            <a:ext cx="4191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4f4c9"/>
                </a:solidFill>
                <a:latin typeface="Courier New"/>
              </a:rPr>
              <a:t>4: Département de physique, Université de Montré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88960" y="5429160"/>
            <a:ext cx="2934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4f4c9"/>
                </a:solidFill>
                <a:latin typeface="Courier New"/>
              </a:rPr>
              <a:t>Montréal (Québec), CANADA   H3C 3J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1371600"/>
            <a:ext cx="495468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0480" y="1676520"/>
            <a:ext cx="28857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ce0a2f"/>
                </a:solidFill>
                <a:latin typeface="Lucida Bright"/>
              </a:rPr>
              <a:t>Fabry-Perot H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6240" y="1676520"/>
            <a:ext cx="264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ce0a2f"/>
                </a:solidFill>
                <a:latin typeface="Symbol"/>
                <a:ea typeface="Symbol"/>
              </a:rPr>
              <a:t>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362320"/>
            <a:ext cx="7467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ce0a2f"/>
                </a:solidFill>
                <a:latin typeface="Lucida Bright"/>
              </a:rPr>
              <a:t>survey of Virgo galaxi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6120" y="533520"/>
            <a:ext cx="73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Bookman Old Style"/>
              </a:rPr>
              <a:t>2-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Kinematics &amp; Dynamics of Nearby Galaxies in clusters</a:t>
            </a:r>
            <a:r>
              <a:rPr b="0" lang="fr-FR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LogoGepi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76920" y="658008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2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600200"/>
            <a:ext cx="838332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1200" y="1432080"/>
            <a:ext cx="32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000" y="1447920"/>
            <a:ext cx="348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•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On-going  Fabry-Perot 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1760" y="1828800"/>
            <a:ext cx="369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Galaxies having deep H</a:t>
            </a:r>
            <a:r>
              <a:rPr b="1" lang="fr-FR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50080" y="2057400"/>
            <a:ext cx="25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(Koopman et al.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6960" y="2666880"/>
            <a:ext cx="667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Galaxies with perturbed rotation curves (Rubin et al. 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3560" y="2743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7120" y="3505320"/>
            <a:ext cx="7222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•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Compare the gas velocity field with numer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simulations of ram pressure stripping (eg Vollmer et al.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5200" y="3886200"/>
            <a:ext cx="1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54320" y="4343400"/>
            <a:ext cx="4592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Allow to establish when a galax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has passed through the cluster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54320" y="5105520"/>
            <a:ext cx="4287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Test the hypothesis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re-accretion of the expelled g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onto the galaxy disk after stri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3720" y="4538520"/>
            <a:ext cx="29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4960" y="765000"/>
            <a:ext cx="31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8580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Bookman Old Style"/>
              </a:rPr>
              <a:t>Scientific justific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70240" y="16765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(Boselli &amp; Gavazzi 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7560" y="651672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6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Gepi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vollmer4522_1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336840" cy="5553360"/>
          </a:xfrm>
          <a:prstGeom prst="rect">
            <a:avLst/>
          </a:prstGeom>
          <a:ln w="0">
            <a:noFill/>
          </a:ln>
        </p:spPr>
      </p:pic>
      <p:pic>
        <p:nvPicPr>
          <p:cNvPr id="120" name="vollmer4522_4" descr=""/>
          <p:cNvPicPr/>
          <p:nvPr/>
        </p:nvPicPr>
        <p:blipFill>
          <a:blip r:embed="rId2"/>
          <a:stretch/>
        </p:blipFill>
        <p:spPr>
          <a:xfrm>
            <a:off x="4876920" y="609480"/>
            <a:ext cx="2971800" cy="556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4320" y="4140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GC 4522 (Vollmer et al.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8400" y="47242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5600" y="15238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LogoGepi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76920" y="658008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2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114800" y="914400"/>
            <a:ext cx="3809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fr-FR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 Velocity Field of NGC 44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(ESO 3.6m tel., obs.  2002/04)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14400"/>
            <a:ext cx="3809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fr-FR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 + [NII] image of NGC 44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(Kenney &amp; Yale 2002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fig3metaf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124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0920" y="2286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GC 4438 (in prep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7000" y="5943600"/>
            <a:ext cx="42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(cube 512x512x40, FSR=490 km/s, ~0.5”/pix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LogoGepi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876920" y="658008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2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1600200"/>
            <a:ext cx="838332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1200" y="1432080"/>
            <a:ext cx="32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2960" y="1219320"/>
            <a:ext cx="13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Bookman Old Style"/>
              </a:rPr>
              <a:t>1-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Context</a:t>
            </a:r>
            <a:r>
              <a:rPr b="1" lang="fr-FR" sz="1800" spc="-1" strike="noStrike">
                <a:solidFill>
                  <a:srgbClr val="000000"/>
                </a:solidFill>
                <a:latin typeface="Bookman Old Style"/>
              </a:rPr>
              <a:t> :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3560" y="2743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5200" y="3886200"/>
            <a:ext cx="1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3720" y="4538520"/>
            <a:ext cx="29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4960" y="765000"/>
            <a:ext cx="31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5720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Bookman Old Style"/>
              </a:rPr>
              <a:t>II. Kinematics &amp; Dynamics of Distant Galaxies</a:t>
            </a:r>
            <a:r>
              <a:rPr b="0" lang="fr-FR" sz="2400" spc="-1" strike="noStrike">
                <a:solidFill>
                  <a:srgbClr val="ff0000"/>
                </a:solidFill>
                <a:latin typeface="Bookman Old Style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0880" y="1676520"/>
            <a:ext cx="492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Few tens of rotation cur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</a:t>
            </a:r>
            <a:r>
              <a:rPr b="1" lang="fr-FR" sz="1800" spc="-1" strike="noStrike">
                <a:solidFill>
                  <a:srgbClr val="3333cc"/>
                </a:solidFill>
                <a:latin typeface="StarMath"/>
                <a:ea typeface="StarMath"/>
              </a:rPr>
              <a:t>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emission lines (Vogt et al. 1996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</a:t>
            </a:r>
            <a:r>
              <a:rPr b="1" lang="fr-FR" sz="1800" spc="-1" strike="noStrike">
                <a:solidFill>
                  <a:srgbClr val="3333cc"/>
                </a:solidFill>
                <a:latin typeface="StarMath"/>
                <a:ea typeface="StarMath"/>
              </a:rPr>
              <a:t>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absorption lines (Kelson et al.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Long-slit spectroscopy (Keck Telesc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Low spectral res. (</a:t>
            </a:r>
            <a:r>
              <a:rPr b="1" lang="fr-FR" sz="1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~ 60 km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400800" y="1295280"/>
          <a:ext cx="2124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295280"/>
                    <a:ext cx="212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92320" y="4191120"/>
            <a:ext cx="5144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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Result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StarMath"/>
                <a:ea typeface="StarMath"/>
              </a:rPr>
              <a:t>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rotation curves of distant gal. are simi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to nearby 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StarMath"/>
                <a:ea typeface="StarMath"/>
              </a:rPr>
              <a:t>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no change of slope or shape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lang="fr-FR" sz="1800" spc="-1" strike="noStrike">
                <a:solidFill>
                  <a:srgbClr val="3333cc"/>
                </a:solidFill>
                <a:latin typeface="Bookman Old Style"/>
              </a:rPr>
              <a:t>TF-relation vs local TF-r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94200" y="99072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Bookman Old Style"/>
              </a:rPr>
              <a:t>Vogt et al. 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1760" y="617220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Bookman Old Style"/>
              </a:rPr>
              <a:t>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LogoGepi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876920" y="658008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2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2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8:39:23Z</dcterms:created>
  <dc:creator>Lorenzo</dc:creator>
  <dc:description/>
  <dc:language>en-US</dc:language>
  <cp:lastModifiedBy>cayatte</cp:lastModifiedBy>
  <cp:lastPrinted>2002-07-18T04:53:02Z</cp:lastPrinted>
  <dcterms:modified xsi:type="dcterms:W3CDTF">2002-07-18T04:56:26Z</dcterms:modified>
  <cp:revision>457</cp:revision>
  <dc:subject/>
  <dc:title>FLAMES/GIRAFFE:   Euro3D, kickoff meeting, science</dc:title>
</cp:coreProperties>
</file>