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wmf" ContentType="image/x-wmf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1400" y="4161240"/>
            <a:ext cx="78091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800" y="190656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1400" y="416124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800" y="416124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42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1640" y="1906560"/>
            <a:ext cx="25142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2240" y="1906560"/>
            <a:ext cx="25142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71400" y="4161240"/>
            <a:ext cx="25142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1640" y="4161240"/>
            <a:ext cx="25142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2240" y="4161240"/>
            <a:ext cx="251424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91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106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800" y="1906560"/>
            <a:ext cx="38106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520" y="72720"/>
            <a:ext cx="780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906560"/>
            <a:ext cx="38106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71400" y="416124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106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800" y="190656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800" y="416124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800" y="1906560"/>
            <a:ext cx="381060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71400" y="4161240"/>
            <a:ext cx="7809120" cy="20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6880" y="73080"/>
            <a:ext cx="8498160" cy="1150920"/>
          </a:xfrm>
          <a:prstGeom prst="roundRect">
            <a:avLst>
              <a:gd name="adj" fmla="val 125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1000" y="6456240"/>
            <a:ext cx="8997840" cy="319320"/>
          </a:xfrm>
          <a:prstGeom prst="roundRect">
            <a:avLst>
              <a:gd name="adj" fmla="val 426"/>
            </a:avLst>
          </a:prstGeom>
          <a:solidFill>
            <a:srgbClr val="2323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HG Mincho Light J"/>
              </a:rPr>
              <a:t>  </a:t>
            </a:r>
            <a:r>
              <a:rPr b="0" lang="en-GB" sz="1800" spc="-1" strike="noStrike">
                <a:solidFill>
                  <a:srgbClr val="ffff66"/>
                </a:solidFill>
                <a:latin typeface="Charter"/>
                <a:ea typeface="HG Mincho Light J"/>
              </a:rPr>
              <a:t>Michele Cappellari   </a:t>
            </a:r>
            <a:r>
              <a:rPr b="0" lang="en-GB" sz="1800" spc="-1" strike="noStrike">
                <a:solidFill>
                  <a:srgbClr val="e6e6ff"/>
                </a:solidFill>
                <a:latin typeface="Charter"/>
                <a:ea typeface="HG Mincho Light J"/>
              </a:rPr>
              <a:t>(Leiden Observatory)                        Euro3D Meeting 3 July 200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91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lvl="1" marL="71748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lvl="2" marL="97956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lvl="3" marL="123984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lvl="4" marL="1501920" indent="-39240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lvl="5" marL="1501920" indent="-392400">
              <a:lnSpc>
                <a:spcPct val="95000"/>
              </a:lnSpc>
              <a:spcAft>
                <a:spcPts val="1287"/>
              </a:spcAft>
              <a:buClr>
                <a:srgbClr val="ffffcc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lvl="6" marL="1501920" indent="-392400">
              <a:lnSpc>
                <a:spcPct val="95000"/>
              </a:lnSpc>
              <a:spcAft>
                <a:spcPts val="1287"/>
              </a:spcAft>
              <a:buClr>
                <a:srgbClr val="ffffcc"/>
              </a:buClr>
              <a:buSzPct val="65000"/>
              <a:buFont typeface="Wingdings" charset="2"/>
              <a:buChar char="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751840" y="4710240"/>
            <a:ext cx="3519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ichele Cappella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Leiden Observator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1371600"/>
            <a:ext cx="716292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Dynamical Model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for Galaxies Observed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ith SAUR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AURON Dynamical Modeling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913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4160" indent="-3722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Requirements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lvl="1" marL="681480" indent="-372240">
              <a:lnSpc>
                <a:spcPct val="95000"/>
              </a:lnSpc>
              <a:spcAft>
                <a:spcPts val="1026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500" spc="-1" strike="noStrike">
                <a:solidFill>
                  <a:srgbClr val="ffffcd"/>
                </a:solidFill>
                <a:latin typeface="Tahoma"/>
              </a:rPr>
              <a:t>no restriction on form of potential</a:t>
            </a:r>
            <a:endParaRPr b="0" lang="en-US" sz="2500" spc="-1" strike="noStrike">
              <a:solidFill>
                <a:srgbClr val="ffffcd"/>
              </a:solidFill>
              <a:latin typeface="Tahoma"/>
            </a:endParaRPr>
          </a:p>
          <a:p>
            <a:pPr lvl="2" marL="930240" indent="-372240">
              <a:lnSpc>
                <a:spcPct val="95000"/>
              </a:lnSpc>
              <a:spcAft>
                <a:spcPts val="774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arbitrary geometry</a:t>
            </a:r>
            <a:endParaRPr b="0" lang="en-US" sz="2200" spc="-1" strike="noStrike">
              <a:solidFill>
                <a:srgbClr val="ffffcd"/>
              </a:solidFill>
              <a:latin typeface="Tahoma"/>
            </a:endParaRPr>
          </a:p>
          <a:p>
            <a:pPr lvl="2" marL="930240" indent="-372240">
              <a:lnSpc>
                <a:spcPct val="95000"/>
              </a:lnSpc>
              <a:spcAft>
                <a:spcPts val="774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multiple components</a:t>
            </a:r>
            <a:endParaRPr b="0" lang="en-US" sz="2200" spc="-1" strike="noStrike">
              <a:solidFill>
                <a:srgbClr val="ffffcd"/>
              </a:solidFill>
              <a:latin typeface="Tahoma"/>
            </a:endParaRPr>
          </a:p>
          <a:p>
            <a:pPr lvl="1" marL="681480" indent="-372240">
              <a:lnSpc>
                <a:spcPct val="95000"/>
              </a:lnSpc>
              <a:spcAft>
                <a:spcPts val="1026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500" spc="-1" strike="noStrike">
                <a:solidFill>
                  <a:srgbClr val="ffffcd"/>
                </a:solidFill>
                <a:latin typeface="Tahoma"/>
              </a:rPr>
              <a:t>no restriction on distribution function [but f(r,v)</a:t>
            </a:r>
            <a:r>
              <a:rPr b="0" lang="en-US" sz="2500" spc="-1" strike="noStrike">
                <a:solidFill>
                  <a:srgbClr val="ffffcd"/>
                </a:solidFill>
                <a:latin typeface="Symbol"/>
                <a:ea typeface="Symbol"/>
              </a:rPr>
              <a:t></a:t>
            </a:r>
            <a:r>
              <a:rPr b="0" lang="en-US" sz="2500" spc="-1" strike="noStrike">
                <a:solidFill>
                  <a:srgbClr val="ffffcd"/>
                </a:solidFill>
                <a:latin typeface="Tahoma"/>
              </a:rPr>
              <a:t>0]</a:t>
            </a:r>
            <a:endParaRPr b="0" lang="en-US" sz="2500" spc="-1" strike="noStrike">
              <a:solidFill>
                <a:srgbClr val="ffffcd"/>
              </a:solidFill>
              <a:latin typeface="Tahoma"/>
            </a:endParaRPr>
          </a:p>
          <a:p>
            <a:pPr lvl="2" marL="930240" indent="-372240">
              <a:lnSpc>
                <a:spcPct val="95000"/>
              </a:lnSpc>
              <a:spcAft>
                <a:spcPts val="774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full range of velocity anisotropy</a:t>
            </a:r>
            <a:endParaRPr b="0" lang="en-US" sz="2200" spc="-1" strike="noStrike">
              <a:solidFill>
                <a:srgbClr val="ffffcd"/>
              </a:solidFill>
              <a:latin typeface="Tahoma"/>
            </a:endParaRPr>
          </a:p>
          <a:p>
            <a:pPr lvl="2" marL="930240" indent="-372240">
              <a:lnSpc>
                <a:spcPct val="95000"/>
              </a:lnSpc>
              <a:spcAft>
                <a:spcPts val="774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no need to know analytic integrals of motion</a:t>
            </a:r>
            <a:endParaRPr b="0" lang="en-US" sz="2200" spc="-1" strike="noStrike">
              <a:solidFill>
                <a:srgbClr val="ffffcd"/>
              </a:solidFill>
              <a:latin typeface="Tahoma"/>
            </a:endParaRPr>
          </a:p>
          <a:p>
            <a:pPr marL="434160" indent="-3722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This can be done with Schwarzschild’s orbit superposition method including all kinematic observables (V,</a:t>
            </a:r>
            <a:r>
              <a:rPr b="0" lang="en-US" sz="29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,VP shapes)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Galaxy Orbit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1442880"/>
            <a:ext cx="2525760" cy="235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98720" y="1452600"/>
            <a:ext cx="2359080" cy="235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2514600" cy="2452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895480" y="3886200"/>
            <a:ext cx="2340000" cy="2432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405040" y="5791320"/>
            <a:ext cx="2321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riaxial Stäckel potenti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.g. Statler (1987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567400" y="1447920"/>
            <a:ext cx="3271680" cy="3166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67160" y="4648320"/>
            <a:ext cx="2251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xisymmetric potenti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e.g. Cretton et al. (1999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3640" y="3510000"/>
            <a:ext cx="445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G Mincho Light J"/>
              </a:rPr>
              <a:t>bo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56320" y="3505320"/>
            <a:ext cx="179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G Mincho Light J"/>
              </a:rPr>
              <a:t>short-axis tub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520" y="6024600"/>
            <a:ext cx="2388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G Mincho Light J"/>
              </a:rPr>
              <a:t>inner long-axis tub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74960" y="6019920"/>
            <a:ext cx="2411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G Mincho Light J"/>
              </a:rPr>
              <a:t>outer long-axis tub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838080" y="1447920"/>
          <a:ext cx="3354480" cy="32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335448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atastrophe Theory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30720" y="1500120"/>
            <a:ext cx="3327480" cy="3184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87760" y="4876920"/>
            <a:ext cx="1110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|x|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-1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3080" y="4724280"/>
            <a:ext cx="1110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us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|x|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-2/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48120" y="3657240"/>
            <a:ext cx="152280" cy="121932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553080" y="4114440"/>
            <a:ext cx="152640" cy="68580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694480"/>
            <a:ext cx="693432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When a smooth surface is projected onto a plane only these two singularities appear (Whitney 1955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6440" y="1600200"/>
            <a:ext cx="17366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HG Mincho Light J"/>
              </a:rPr>
              <a:t>no inverse imag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1828800"/>
            <a:ext cx="75960" cy="1676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5720" y="4267080"/>
            <a:ext cx="18446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HG Mincho Light J"/>
              </a:rPr>
              <a:t>two inverse imag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828800" y="3429000"/>
            <a:ext cx="304920" cy="914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rbital Tori Projec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9520" y="4546440"/>
            <a:ext cx="3254400" cy="1265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94240" y="4562640"/>
            <a:ext cx="3292560" cy="127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4145040" cy="2525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24280" y="1461960"/>
            <a:ext cx="41911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Regular orbits in 3-dim can be reduced to translations on a  3-torus in 6-dim phase sp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x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,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v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)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,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Orbital density is constant on the torus surf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5156280"/>
            <a:ext cx="14479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37960" y="4775040"/>
            <a:ext cx="1212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HG Mincho Light J"/>
              </a:rPr>
              <a:t>Projec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9240" y="6095880"/>
            <a:ext cx="678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us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943240" y="5155920"/>
            <a:ext cx="1143000" cy="99036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943240" y="5460480"/>
            <a:ext cx="1143000" cy="68580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086600" y="5079600"/>
            <a:ext cx="1066680" cy="106668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086600" y="5384880"/>
            <a:ext cx="1143000" cy="761760"/>
          </a:xfrm>
          <a:prstGeom prst="line">
            <a:avLst/>
          </a:prstGeom>
          <a:ln w="1908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69280" y="4038480"/>
            <a:ext cx="595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l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394160"/>
            <a:ext cx="15228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4394160"/>
            <a:ext cx="22860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705360" y="4394160"/>
            <a:ext cx="15228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07600" y="5859360"/>
            <a:ext cx="1291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2D Tor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65160" y="18288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atastrophe in the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rbital Surface Brightnes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011600" y="5432400"/>
            <a:ext cx="1110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|x|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-1/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59280" y="5432400"/>
            <a:ext cx="1110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us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|x|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-2/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23880" y="4267080"/>
            <a:ext cx="152640" cy="1067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819520" y="3809520"/>
            <a:ext cx="457200" cy="1600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6600" y="1463760"/>
            <a:ext cx="65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=6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2520" y="1447920"/>
            <a:ext cx="65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=8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60840" y="5105520"/>
            <a:ext cx="2590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Regular orbits!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an axisymmetric potent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362320"/>
            <a:ext cx="0" cy="213336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89200" y="2043000"/>
            <a:ext cx="1392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ahoma"/>
                <a:ea typeface="HG Mincho Light J"/>
              </a:rPr>
              <a:t>Symmetry ax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64400" y="2376360"/>
            <a:ext cx="0" cy="213372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4960" y="2057400"/>
            <a:ext cx="1392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00"/>
                </a:solidFill>
                <a:latin typeface="Tahoma"/>
                <a:ea typeface="HG Mincho Light J"/>
              </a:rPr>
              <a:t>Symmetry axi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2438280"/>
            <a:ext cx="380880" cy="381240"/>
          </a:xfrm>
          <a:custGeom>
            <a:avLst/>
            <a:gdLst>
              <a:gd name="textAreaLeft" fmla="*/ 50760 w 380880"/>
              <a:gd name="textAreaRight" fmla="*/ 330120 w 38088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rbital Surface Brightnes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6380280" y="1463760"/>
            <a:ext cx="65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=6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11760" y="1447920"/>
            <a:ext cx="65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=8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13440" y="5421240"/>
            <a:ext cx="6252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ame orbit as before, but with a different colorm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388620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530200">
            <a:off x="3304800" y="3996000"/>
            <a:ext cx="169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743200" y="350532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296000">
            <a:off x="2706120" y="3386880"/>
            <a:ext cx="244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  <a:ea typeface="HG Mincho Light J"/>
              </a:rPr>
              <a:t>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3200" y="388620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2400">
            <a:off x="2419200" y="4005000"/>
            <a:ext cx="277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I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rbital Mean Velocity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232360" y="5121360"/>
            <a:ext cx="87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x',y'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560" y="5192640"/>
            <a:ext cx="91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(x',y'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443320" y="1447920"/>
            <a:ext cx="65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=8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52560" y="2057400"/>
            <a:ext cx="7472880" cy="4098960"/>
            <a:chOff x="952560" y="2057400"/>
            <a:chExt cx="7472880" cy="4098960"/>
          </a:xfrm>
        </p:grpSpPr>
        <p:grpSp>
          <p:nvGrpSpPr>
            <p:cNvPr id="164" name=""/>
            <p:cNvGrpSpPr/>
            <p:nvPr/>
          </p:nvGrpSpPr>
          <p:grpSpPr>
            <a:xfrm>
              <a:off x="5257800" y="2057400"/>
              <a:ext cx="2514600" cy="2666880"/>
              <a:chOff x="5257800" y="2057400"/>
              <a:chExt cx="2514600" cy="2666880"/>
            </a:xfrm>
          </p:grpSpPr>
          <p:sp>
            <p:nvSpPr>
              <p:cNvPr id="165" name=""/>
              <p:cNvSpPr/>
              <p:nvPr/>
            </p:nvSpPr>
            <p:spPr>
              <a:xfrm>
                <a:off x="5257800" y="3352680"/>
                <a:ext cx="2514600" cy="152640"/>
              </a:xfrm>
              <a:prstGeom prst="rect">
                <a:avLst/>
              </a:prstGeom>
              <a:noFill/>
              <a:ln w="1908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77120" y="2057400"/>
                <a:ext cx="152280" cy="2666880"/>
              </a:xfrm>
              <a:prstGeom prst="rect">
                <a:avLst/>
              </a:prstGeom>
              <a:noFill/>
              <a:ln w="1908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952560" y="5808600"/>
              <a:ext cx="74728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spcAft>
                  <a:spcPts val="12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  <a:ea typeface="HG Mincho Light J"/>
                </a:rPr>
                <a:t>No observable contribution on the major/minor axi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rbital Velocity Dispers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32360" y="5121360"/>
            <a:ext cx="87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x',y'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5186520"/>
            <a:ext cx="87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x',y'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367360" y="1447920"/>
            <a:ext cx="65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=80</a:t>
            </a:r>
            <a:r>
              <a:rPr b="0" lang="en-US" sz="2400" spc="-1" strike="noStrike" baseline="30000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onsequence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400" y="1295280"/>
            <a:ext cx="78091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420480" indent="-36036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The localized contribution of regular orbits to the observables implies: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lvl="1" marL="659880" indent="-360360">
              <a:lnSpc>
                <a:spcPct val="95000"/>
              </a:lnSpc>
              <a:spcAft>
                <a:spcPts val="1026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500" spc="-1" strike="noStrike">
                <a:solidFill>
                  <a:srgbClr val="ffffcd"/>
                </a:solidFill>
                <a:latin typeface="Tahoma"/>
              </a:rPr>
              <a:t>Integral Field Spectroscopy is </a:t>
            </a:r>
            <a:r>
              <a:rPr b="0" lang="en-US" sz="2500" spc="-1" strike="noStrike" u="sng">
                <a:solidFill>
                  <a:srgbClr val="ffffcd"/>
                </a:solidFill>
                <a:uFillTx/>
                <a:latin typeface="Tahoma"/>
              </a:rPr>
              <a:t>needed</a:t>
            </a:r>
            <a:r>
              <a:rPr b="0" lang="en-US" sz="2500" spc="-1" strike="noStrike">
                <a:solidFill>
                  <a:srgbClr val="ffffcd"/>
                </a:solidFill>
                <a:latin typeface="Tahoma"/>
              </a:rPr>
              <a:t> to constrain the internal dynamics</a:t>
            </a:r>
            <a:endParaRPr b="0" lang="en-US" sz="2500" spc="-1" strike="noStrike">
              <a:solidFill>
                <a:srgbClr val="ffffcd"/>
              </a:solidFill>
              <a:latin typeface="Tahoma"/>
            </a:endParaRPr>
          </a:p>
          <a:p>
            <a:pPr lvl="1" marL="659880" indent="-360360">
              <a:lnSpc>
                <a:spcPct val="95000"/>
              </a:lnSpc>
              <a:spcAft>
                <a:spcPts val="1026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500" spc="-1" strike="noStrike">
                <a:solidFill>
                  <a:srgbClr val="ffffcd"/>
                </a:solidFill>
                <a:latin typeface="Tahoma"/>
              </a:rPr>
              <a:t>We can understand some known facts:</a:t>
            </a:r>
            <a:endParaRPr b="0" lang="en-US" sz="2500" spc="-1" strike="noStrike">
              <a:solidFill>
                <a:srgbClr val="ffffcd"/>
              </a:solidFill>
              <a:latin typeface="Tahoma"/>
            </a:endParaRPr>
          </a:p>
          <a:p>
            <a:pPr lvl="2" marL="901080" indent="-360360">
              <a:lnSpc>
                <a:spcPct val="95000"/>
              </a:lnSpc>
              <a:spcAft>
                <a:spcPts val="774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Easy to construct self-consistent models (fit the density with the orbital components)</a:t>
            </a:r>
            <a:endParaRPr b="0" lang="en-US" sz="2200" spc="-1" strike="noStrike">
              <a:solidFill>
                <a:srgbClr val="ffffcd"/>
              </a:solidFill>
              <a:latin typeface="Tahoma"/>
            </a:endParaRPr>
          </a:p>
          <a:p>
            <a:pPr lvl="2" marL="901080" indent="-360360">
              <a:lnSpc>
                <a:spcPct val="95000"/>
              </a:lnSpc>
              <a:spcAft>
                <a:spcPts val="774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Easy to reproduce any velocity field: higher order moments are </a:t>
            </a:r>
            <a:r>
              <a:rPr b="0" lang="en-US" sz="2200" spc="-1" strike="noStrike" u="sng">
                <a:solidFill>
                  <a:srgbClr val="ffffcd"/>
                </a:solidFill>
                <a:uFillTx/>
                <a:latin typeface="Tahoma"/>
              </a:rPr>
              <a:t>needed</a:t>
            </a: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 to constrain the internal dynamics</a:t>
            </a:r>
            <a:endParaRPr b="0" lang="en-US" sz="2200" spc="-1" strike="noStrike">
              <a:solidFill>
                <a:srgbClr val="ffffcd"/>
              </a:solidFill>
              <a:latin typeface="Tahoma"/>
            </a:endParaRPr>
          </a:p>
          <a:p>
            <a:pPr lvl="2" marL="901080" indent="-360360">
              <a:lnSpc>
                <a:spcPct val="95000"/>
              </a:lnSpc>
              <a:spcAft>
                <a:spcPts val="774"/>
              </a:spcAft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</a:tabLst>
            </a:pP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The DF has to be smooth, otherwise </a:t>
            </a:r>
            <a:r>
              <a:rPr b="0" i="1" lang="en-US" sz="2200" spc="-1" strike="noStrike">
                <a:solidFill>
                  <a:srgbClr val="ffffcd"/>
                </a:solidFill>
                <a:latin typeface="Tahoma"/>
              </a:rPr>
              <a:t>cusps</a:t>
            </a: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 and </a:t>
            </a:r>
            <a:r>
              <a:rPr b="0" i="1" lang="en-US" sz="2200" spc="-1" strike="noStrike">
                <a:solidFill>
                  <a:srgbClr val="ffffcd"/>
                </a:solidFill>
                <a:latin typeface="Tahoma"/>
              </a:rPr>
              <a:t>folds</a:t>
            </a:r>
            <a:r>
              <a:rPr b="0" lang="en-US" sz="2200" spc="-1" strike="noStrike">
                <a:solidFill>
                  <a:srgbClr val="ffffcd"/>
                </a:solidFill>
                <a:latin typeface="Tahoma"/>
              </a:rPr>
              <a:t> would appear in the galaxy surface brightness</a:t>
            </a:r>
            <a:endParaRPr b="0" lang="en-US" sz="2200" spc="-1" strike="noStrike">
              <a:solidFill>
                <a:srgbClr val="ffffc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E3 Galaxy M32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80917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mall, inactive companion of Andromeda nebul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any studies suggest presence of central BH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Best previous study ground-based long-slit data and HST/FOS aperture together with Schwarzschil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xisymmetric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dynamical models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(van der Marel et al. 1998)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esults: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17480" indent="-392040">
              <a:lnSpc>
                <a:spcPct val="95000"/>
              </a:lnSpc>
              <a:spcAft>
                <a:spcPts val="1026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000" spc="-1" strike="noStrike">
                <a:solidFill>
                  <a:srgbClr val="ffffcd"/>
                </a:solidFill>
                <a:latin typeface="Tahoma"/>
              </a:rPr>
              <a:t>(M/L)</a:t>
            </a:r>
            <a:r>
              <a:rPr b="0" lang="en-US" sz="2000" spc="-1" strike="noStrike" baseline="-25000">
                <a:solidFill>
                  <a:srgbClr val="ffffcd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ffcd"/>
                </a:solidFill>
                <a:latin typeface="Tahoma"/>
              </a:rPr>
              <a:t>=2.0 ± 0.3</a:t>
            </a:r>
            <a:endParaRPr b="0" lang="en-US" sz="2000" spc="-1" strike="noStrike">
              <a:solidFill>
                <a:srgbClr val="ffffcd"/>
              </a:solidFill>
              <a:latin typeface="Tahoma"/>
            </a:endParaRPr>
          </a:p>
          <a:p>
            <a:pPr lvl="1" marL="717480" indent="-392040">
              <a:lnSpc>
                <a:spcPct val="95000"/>
              </a:lnSpc>
              <a:spcAft>
                <a:spcPts val="1026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000" spc="-1" strike="noStrike">
                <a:solidFill>
                  <a:srgbClr val="ffffcd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ffffcd"/>
                </a:solidFill>
                <a:latin typeface="Tahoma"/>
              </a:rPr>
              <a:t>BH</a:t>
            </a:r>
            <a:r>
              <a:rPr b="0" lang="en-US" sz="2000" spc="-1" strike="noStrike">
                <a:solidFill>
                  <a:srgbClr val="ffffcd"/>
                </a:solidFill>
                <a:latin typeface="Tahoma"/>
              </a:rPr>
              <a:t>=(3.4 ± 0.7)x10</a:t>
            </a:r>
            <a:r>
              <a:rPr b="0" lang="en-US" sz="2000" spc="-1" strike="noStrike" baseline="30000">
                <a:solidFill>
                  <a:srgbClr val="ffffcd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ffcd"/>
                </a:solidFill>
                <a:latin typeface="Tahoma"/>
              </a:rPr>
              <a:t> M</a:t>
            </a:r>
            <a:r>
              <a:rPr b="0" lang="en-US" sz="2000" spc="-1" strike="noStrike" baseline="-25000">
                <a:solidFill>
                  <a:srgbClr val="ffffcd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ffffcd"/>
              </a:solidFill>
              <a:latin typeface="Tahoma"/>
            </a:endParaRPr>
          </a:p>
          <a:p>
            <a:pPr lvl="1" marL="717480" indent="-392040">
              <a:lnSpc>
                <a:spcPct val="95000"/>
              </a:lnSpc>
              <a:spcAft>
                <a:spcPts val="1026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000" spc="-1" strike="noStrike">
                <a:solidFill>
                  <a:srgbClr val="ffffcd"/>
                </a:solidFill>
                <a:latin typeface="Tahoma"/>
              </a:rPr>
              <a:t>55</a:t>
            </a:r>
            <a:r>
              <a:rPr b="0" lang="en-US" sz="2000" spc="-1" strike="noStrike" baseline="30000">
                <a:solidFill>
                  <a:srgbClr val="ffffcd"/>
                </a:solidFill>
                <a:latin typeface="Tahoma"/>
              </a:rPr>
              <a:t>o </a:t>
            </a:r>
            <a:r>
              <a:rPr b="0" lang="en-US" sz="2000" spc="-1" strike="noStrike">
                <a:solidFill>
                  <a:srgbClr val="ffffcd"/>
                </a:solidFill>
                <a:latin typeface="Tahoma"/>
              </a:rPr>
              <a:t>&lt; i &lt; 90</a:t>
            </a:r>
            <a:r>
              <a:rPr b="0" lang="en-US" sz="2000" spc="-1" strike="noStrike" baseline="30000">
                <a:solidFill>
                  <a:srgbClr val="ffffcd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ffffcd"/>
              </a:solidFill>
              <a:latin typeface="Tahoma"/>
            </a:endParaRPr>
          </a:p>
          <a:p>
            <a:pPr lvl="1" marL="717480" indent="0">
              <a:lnSpc>
                <a:spcPct val="95000"/>
              </a:lnSpc>
              <a:spcAft>
                <a:spcPts val="1026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000" spc="-1" strike="noStrike">
              <a:solidFill>
                <a:srgbClr val="ffffc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Extraction of kinematics: 2D-binning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Why Integral Field Spectroscopy is important?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SAURON example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Next steps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32: Dynamical Modeling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ith SAURON Stellar Kinematic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4902120"/>
            <a:ext cx="72532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4160" indent="-372240">
              <a:lnSpc>
                <a:spcPct val="95000"/>
              </a:lnSpc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We use new data: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lvl="1" marL="681480" indent="-372240">
              <a:lnSpc>
                <a:spcPct val="95000"/>
              </a:lnSpc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500" spc="-1" strike="noStrike">
                <a:solidFill>
                  <a:srgbClr val="ffffcd"/>
                </a:solidFill>
                <a:latin typeface="Tahoma"/>
              </a:rPr>
              <a:t>SAURON high resolution map of inner 9”x11” </a:t>
            </a:r>
            <a:r>
              <a:rPr b="0" lang="en-US" sz="1800" spc="-1" strike="noStrike">
                <a:solidFill>
                  <a:srgbClr val="ffffcd"/>
                </a:solidFill>
                <a:latin typeface="Tahoma"/>
              </a:rPr>
              <a:t>(de Zeeuw et al. 2002, MNRAS)</a:t>
            </a:r>
            <a:endParaRPr b="0" lang="en-US" sz="1800" spc="-1" strike="noStrike">
              <a:solidFill>
                <a:srgbClr val="ffffcd"/>
              </a:solidFill>
              <a:latin typeface="Tahoma"/>
            </a:endParaRPr>
          </a:p>
          <a:p>
            <a:pPr lvl="1" marL="681480" indent="-372240">
              <a:lnSpc>
                <a:spcPct val="95000"/>
              </a:lnSpc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500" spc="-1" strike="noStrike">
                <a:solidFill>
                  <a:srgbClr val="ffffcd"/>
                </a:solidFill>
                <a:latin typeface="Tahoma"/>
              </a:rPr>
              <a:t>STIS major axis kinematics </a:t>
            </a:r>
            <a:r>
              <a:rPr b="0" lang="en-US" sz="1800" spc="-1" strike="noStrike">
                <a:solidFill>
                  <a:srgbClr val="ffffcd"/>
                </a:solidFill>
                <a:latin typeface="Tahoma"/>
              </a:rPr>
              <a:t>(Joseph et al. 2001, ApJ)</a:t>
            </a:r>
            <a:endParaRPr b="0" lang="en-US" sz="1800" spc="-1" strike="noStrike">
              <a:solidFill>
                <a:srgbClr val="ffffcd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410080" cy="3591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3011400" cy="3429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07840" y="4114800"/>
            <a:ext cx="183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01320" y="4060800"/>
            <a:ext cx="185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2040" y="4060800"/>
            <a:ext cx="290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  <a:ea typeface="HG Mincho Light J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67680" y="4060800"/>
            <a:ext cx="290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  <a:ea typeface="HG Mincho Light J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1520" y="1523880"/>
            <a:ext cx="183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57840" y="2209680"/>
            <a:ext cx="185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77560" y="2917800"/>
            <a:ext cx="290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  <a:ea typeface="HG Mincho Light J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01320" y="3733920"/>
            <a:ext cx="290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ahoma"/>
                <a:ea typeface="HG Mincho Light J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60040" y="1371600"/>
            <a:ext cx="608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ST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04920" y="1295280"/>
            <a:ext cx="3584520" cy="5105160"/>
            <a:chOff x="304920" y="1295280"/>
            <a:chExt cx="3584520" cy="510516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304920" y="5075280"/>
              <a:ext cx="3581640" cy="132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304920" y="1295280"/>
              <a:ext cx="3584520" cy="385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32: Best-fitting Parameter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38120" y="2590560"/>
            <a:ext cx="39625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marL="315360" indent="-27036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Stringent constraints for M/L, M</a:t>
            </a:r>
            <a:r>
              <a:rPr b="0" lang="en-US" sz="2900" spc="-1" strike="noStrike" baseline="-25000">
                <a:solidFill>
                  <a:srgbClr val="ffff00"/>
                </a:solidFill>
                <a:latin typeface="Tahoma"/>
              </a:rPr>
              <a:t>BH</a:t>
            </a: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, i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315360" indent="-27036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en-US" sz="2900" spc="-1" strike="noStrike" baseline="-25000">
                <a:solidFill>
                  <a:srgbClr val="ffff00"/>
                </a:solidFill>
                <a:latin typeface="Tahoma"/>
              </a:rPr>
              <a:t>BH</a:t>
            </a: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 in perfect agreement with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van der Marel et al. (1998)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46483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410080"/>
            <a:ext cx="3809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HG Mincho Light J"/>
              </a:rPr>
              <a:t>Verolme, Cappellari et al. 2002, MNRAS, in press (astro-ph/0201086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5181480"/>
            <a:ext cx="1143000" cy="34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47" y="-20103"/>
                </a:moveTo>
                <a:lnTo>
                  <a:pt x="-1440" y="4495"/>
                </a:lnTo>
              </a:path>
            </a:pathLst>
          </a:custGeom>
          <a:noFill/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G Mincho Light J"/>
              </a:rPr>
              <a:t>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M32: Importance of 2D Kinematic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334120" y="1317600"/>
            <a:ext cx="3047760" cy="4233960"/>
            <a:chOff x="5334120" y="1317600"/>
            <a:chExt cx="3047760" cy="4233960"/>
          </a:xfrm>
        </p:grpSpPr>
        <p:grpSp>
          <p:nvGrpSpPr>
            <p:cNvPr id="202" name=""/>
            <p:cNvGrpSpPr/>
            <p:nvPr/>
          </p:nvGrpSpPr>
          <p:grpSpPr>
            <a:xfrm>
              <a:off x="5334120" y="1317600"/>
              <a:ext cx="3047760" cy="3885840"/>
              <a:chOff x="5334120" y="1317600"/>
              <a:chExt cx="3047760" cy="3885840"/>
            </a:xfrm>
          </p:grpSpPr>
          <p:pic>
            <p:nvPicPr>
              <p:cNvPr id="2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4120" y="4194720"/>
                <a:ext cx="3045240" cy="10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34120" y="1317600"/>
                <a:ext cx="3047760" cy="293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" name=""/>
            <p:cNvSpPr/>
            <p:nvPr/>
          </p:nvSpPr>
          <p:spPr>
            <a:xfrm>
              <a:off x="5653440" y="5203800"/>
              <a:ext cx="2184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spcAft>
                  <a:spcPts val="12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  <a:ea typeface="HG Mincho Light J"/>
                </a:rPr>
                <a:t>SAURON + STI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52600" y="1295280"/>
            <a:ext cx="3105000" cy="4233960"/>
            <a:chOff x="552600" y="1295280"/>
            <a:chExt cx="3105000" cy="4233960"/>
          </a:xfrm>
        </p:grpSpPr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552600" y="1295280"/>
              <a:ext cx="310500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028160" y="5181480"/>
              <a:ext cx="22395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5000"/>
                </a:lnSpc>
                <a:spcAft>
                  <a:spcPts val="12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  <a:ea typeface="HG Mincho Light J"/>
                </a:rPr>
                <a:t>Four slits + STI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600200" y="5562720"/>
            <a:ext cx="56386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Model parameters and internal structure strongly constrain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514240" y="3886200"/>
            <a:ext cx="3886560" cy="1206000"/>
            <a:chOff x="2514240" y="3886200"/>
            <a:chExt cx="3886560" cy="1206000"/>
          </a:xfrm>
        </p:grpSpPr>
        <p:sp>
          <p:nvSpPr>
            <p:cNvPr id="211" name=""/>
            <p:cNvSpPr/>
            <p:nvPr/>
          </p:nvSpPr>
          <p:spPr>
            <a:xfrm flipV="1">
              <a:off x="5257800" y="3962160"/>
              <a:ext cx="1143000" cy="75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3886200"/>
              <a:ext cx="1058760" cy="12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Aft>
                  <a:spcPts val="12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9900"/>
                  </a:solidFill>
                  <a:latin typeface="Tahoma"/>
                  <a:ea typeface="HG Mincho Light J"/>
                </a:rPr>
                <a:t>3</a:t>
              </a:r>
              <a:r>
                <a:rPr b="0" lang="en-US" sz="24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ff9900"/>
                  </a:solidFill>
                  <a:latin typeface="Tahoma"/>
                  <a:ea typeface="HG Mincho Light J"/>
                </a:rPr>
                <a:t> level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Aft>
                  <a:spcPts val="128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514240" y="3962160"/>
              <a:ext cx="1523880" cy="75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ext Step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1400" y="1600200"/>
            <a:ext cx="78091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Get a deeper understanding on how our models compare to the real galaxies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Construct </a:t>
            </a:r>
            <a:r>
              <a:rPr b="0" lang="en-US" sz="2900" spc="-1" strike="noStrike" u="sng">
                <a:solidFill>
                  <a:srgbClr val="ffff00"/>
                </a:solidFill>
                <a:uFillTx/>
                <a:latin typeface="Tahoma"/>
              </a:rPr>
              <a:t>axisymmetric</a:t>
            </a: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 dynamical models: 26 of the 48 E/S0 in the SAURON survey, are </a:t>
            </a:r>
            <a:r>
              <a:rPr b="0" i="1" lang="en-US" sz="2900" spc="-1" strike="noStrike">
                <a:solidFill>
                  <a:srgbClr val="ffff00"/>
                </a:solidFill>
                <a:latin typeface="Tahoma"/>
              </a:rPr>
              <a:t>consistent</a:t>
            </a: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 with axisymmetry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Construct </a:t>
            </a:r>
            <a:r>
              <a:rPr b="0" lang="en-US" sz="2900" spc="-1" strike="noStrike" u="sng">
                <a:solidFill>
                  <a:srgbClr val="ffff00"/>
                </a:solidFill>
                <a:uFillTx/>
                <a:latin typeface="Tahoma"/>
              </a:rPr>
              <a:t>triaxial</a:t>
            </a: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 dynamical models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Expected Result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4114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As a function of morphological type and luminosity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11480" indent="-35280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Orbital structure, including decoupled components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11480" indent="-35280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Intrinsic shapes, mass distribution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11480" indent="-35280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Rate of occurrence of gaseous and stellar disks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11480" indent="-35280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Star formation history and its connection with dynamical structure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11480" indent="-35280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Black hole demographics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11480" indent="-35280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Importance of BHs for shaping galaxies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daptive 2D-binning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SAURON Data of NGC 2273 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733920" cy="323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3686400" cy="32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93280" y="20494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S/N m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0760" y="198108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Reconstructed im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01880" y="411480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Barred Sa galax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5302080"/>
            <a:ext cx="701028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HG Mincho Light J"/>
              </a:rPr>
              <a:t>The basic adaptive 2D-binning proble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HG Mincho Light J"/>
              </a:rPr>
              <a:t>partition the data into bins having a minimum S/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2D-binning Requirements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912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Topological: </a:t>
            </a: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partition the plane without holes or overlapping bins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Morphological: </a:t>
            </a: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bins as compact or “round” as possible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  <a:p>
            <a:pPr marL="457200" indent="-392040">
              <a:lnSpc>
                <a:spcPct val="95000"/>
              </a:lnSpc>
              <a:spcAft>
                <a:spcPts val="1287"/>
              </a:spcAft>
              <a:buClr>
                <a:srgbClr val="ffff99"/>
              </a:buClr>
              <a:buSzPct val="75000"/>
              <a:buFont typeface="Wingdings" charset="2"/>
              <a:buChar char="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Tahoma"/>
              </a:rPr>
              <a:t>Uniformity: </a:t>
            </a: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minimal S/N scatter</a:t>
            </a:r>
            <a:endParaRPr b="0" lang="en-US" sz="29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2D-binning by QuadTree Decomposi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4343400"/>
            <a:ext cx="279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gular cells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but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large S/N scat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order proble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724280" y="1523880"/>
            <a:ext cx="4221000" cy="2603520"/>
            <a:chOff x="4724280" y="1523880"/>
            <a:chExt cx="4221000" cy="2603520"/>
          </a:xfrm>
        </p:grpSpPr>
        <p:sp>
          <p:nvSpPr>
            <p:cNvPr id="56" name=""/>
            <p:cNvSpPr/>
            <p:nvPr/>
          </p:nvSpPr>
          <p:spPr>
            <a:xfrm>
              <a:off x="8458200" y="1904760"/>
              <a:ext cx="0" cy="10666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59640" y="22096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2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4724280" y="1523880"/>
              <a:ext cx="3598920" cy="260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257720" cy="408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5791320"/>
            <a:ext cx="8229600" cy="8254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atisfie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opological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orphological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requirements ON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Voronoi Tessell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033800" cy="359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59280" y="1600200"/>
            <a:ext cx="3598920" cy="2608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828800" y="5715000"/>
            <a:ext cx="5638680" cy="8254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atisfie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opological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requirement ONL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434340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Definition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: each point in a bin is closer to its generator than to any other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520" y="72720"/>
            <a:ext cx="7808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entroidal Voronoi Tessellation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87800" cy="35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609720" cy="2610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5120" y="5257800"/>
            <a:ext cx="4952880" cy="11912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ll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opological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orphological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Uniformity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quirements satisfie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4343400"/>
            <a:ext cx="25146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  <a:ea typeface="HG Mincho Light J"/>
              </a:rPr>
              <a:t>Cappellari &amp; Copin 2002, astro-ph/0202379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24382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GC 2273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Stellar Mean Velocity Field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648320" y="1608120"/>
            <a:ext cx="4087800" cy="4566600"/>
            <a:chOff x="4648320" y="1608120"/>
            <a:chExt cx="4087800" cy="45666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8120"/>
              <a:ext cx="408780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5331600" y="5715000"/>
              <a:ext cx="284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2D-binned velocit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80880" y="1608120"/>
            <a:ext cx="4214520" cy="4566600"/>
            <a:chOff x="380880" y="1608120"/>
            <a:chExt cx="4214520" cy="456660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380880" y="1608120"/>
              <a:ext cx="421452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85240" y="5715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Not binne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8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5120" indent="0" algn="ctr">
              <a:lnSpc>
                <a:spcPct val="95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NGC 2273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Stellar Velocity Dispersion Field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54520" y="1523880"/>
            <a:ext cx="4084560" cy="3956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52720" y="5715000"/>
            <a:ext cx="41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2D-binned and interpol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04920" y="1523880"/>
            <a:ext cx="4217760" cy="4650840"/>
            <a:chOff x="304920" y="1523880"/>
            <a:chExt cx="4217760" cy="465084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04920" y="1523880"/>
              <a:ext cx="421776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685160" y="5715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Not binned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1:18:38Z</dcterms:created>
  <dc:creator>Michele Cappellari</dc:creator>
  <dc:description/>
  <dc:language>en-US</dc:language>
  <cp:lastModifiedBy>Michele Cappellari</cp:lastModifiedBy>
  <cp:lastPrinted>2001-12-14T16:02:53Z</cp:lastPrinted>
  <dcterms:modified xsi:type="dcterms:W3CDTF">2002-07-09T12:04:18Z</dcterms:modified>
  <cp:revision>180</cp:revision>
  <dc:subject/>
  <dc:title>The SAURON Project Integral Field Spectroscopy of Nearby Galaxies</dc:title>
</cp:coreProperties>
</file>